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26B-9666-4AB1-AE01-DC3B7442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E14-BB4E-413A-B02D-4BC9CA3B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6DC-D593-49CD-9A3A-AB50EEBB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FE6-CB59-4C58-9522-76A86B0D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342A-234A-429F-8805-6BB50C1A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8040-B6D0-43CE-BA18-70502D2E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5121-56B7-4F21-807B-077DA641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C601-E4A7-45B3-9908-17D88867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1EF6-8580-443D-8B54-54433265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6C76-9142-463D-916B-C74B720D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DE2F-29B3-43FB-86A5-DB373968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EDC-21DF-4AEA-B3AC-0F83B2CA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4456-9EB9-4A3A-9E48-5F179847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EB50-E2D7-404E-9944-BEF5406A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4437-2D2B-442A-A2AF-49F236EB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3915-1AAF-4677-A3E2-C809D25E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9677-1F7B-43C1-B815-AF80FE17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FDB-01D4-4303-B0C5-635466C0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474-5A72-4A44-979A-15AE0649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9F5-C2C9-48FE-B3DC-C2857F1D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E0A-5D8E-4730-A10E-13766C8B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6B9-BF40-4827-A8E8-D52FF25D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960-8D81-4568-99BD-2D06A96A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3C1-62FC-4FA5-99A0-16EF9DB8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9707-1E53-4D64-B524-9D3E765BD44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520B-A54F-4149-AFAF-4A47AA06EEA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84320" y="1638360"/>
            <a:ext cx="5180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第十四章 细胞分化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050920" y="3860640"/>
            <a:ext cx="5029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第一节 细胞分化的基本概念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一、多细胞生物个体发育的一般过程与细胞分化潜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（一）动物胚胎的三胚层代表不同类型细胞的分化去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190080" y="5894280"/>
            <a:ext cx="79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受精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49320" y="3836880"/>
            <a:ext cx="304560" cy="304560"/>
            <a:chOff x="949320" y="3836880"/>
            <a:chExt cx="304560" cy="304560"/>
          </a:xfrm>
        </p:grpSpPr>
        <p:sp>
          <p:nvSpPr>
            <p:cNvPr id="150" name=""/>
            <p:cNvSpPr/>
            <p:nvPr/>
          </p:nvSpPr>
          <p:spPr>
            <a:xfrm>
              <a:off x="949320" y="3836880"/>
              <a:ext cx="304560" cy="304560"/>
            </a:xfrm>
            <a:prstGeom prst="ellipse">
              <a:avLst/>
            </a:prstGeom>
            <a:solidFill>
              <a:srgbClr val="ffcdce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0840" y="3938400"/>
              <a:ext cx="101160" cy="101520"/>
            </a:xfrm>
            <a:prstGeom prst="ellipse">
              <a:avLst/>
            </a:prstGeom>
            <a:solidFill>
              <a:srgbClr val="ffcdce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949320" y="3913200"/>
            <a:ext cx="380520" cy="228240"/>
            <a:chOff x="949320" y="3913200"/>
            <a:chExt cx="380520" cy="228240"/>
          </a:xfrm>
        </p:grpSpPr>
        <p:grpSp>
          <p:nvGrpSpPr>
            <p:cNvPr id="153" name=""/>
            <p:cNvGrpSpPr/>
            <p:nvPr/>
          </p:nvGrpSpPr>
          <p:grpSpPr>
            <a:xfrm>
              <a:off x="949320" y="3913200"/>
              <a:ext cx="190080" cy="228240"/>
              <a:chOff x="949320" y="3913200"/>
              <a:chExt cx="190080" cy="228240"/>
            </a:xfrm>
          </p:grpSpPr>
          <p:sp>
            <p:nvSpPr>
              <p:cNvPr id="154" name=""/>
              <p:cNvSpPr/>
              <p:nvPr/>
            </p:nvSpPr>
            <p:spPr>
              <a:xfrm>
                <a:off x="949320" y="3913200"/>
                <a:ext cx="190080" cy="22824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012680" y="3989160"/>
                <a:ext cx="63000" cy="7596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139400" y="3913200"/>
              <a:ext cx="190440" cy="228240"/>
              <a:chOff x="1139400" y="3913200"/>
              <a:chExt cx="190440" cy="228240"/>
            </a:xfrm>
          </p:grpSpPr>
          <p:sp>
            <p:nvSpPr>
              <p:cNvPr id="157" name=""/>
              <p:cNvSpPr/>
              <p:nvPr/>
            </p:nvSpPr>
            <p:spPr>
              <a:xfrm>
                <a:off x="1139400" y="3913200"/>
                <a:ext cx="190440" cy="22824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02760" y="3989160"/>
                <a:ext cx="63000" cy="7596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949320" y="3836880"/>
            <a:ext cx="304920" cy="304560"/>
            <a:chOff x="949320" y="3836880"/>
            <a:chExt cx="304920" cy="304560"/>
          </a:xfrm>
        </p:grpSpPr>
        <p:grpSp>
          <p:nvGrpSpPr>
            <p:cNvPr id="160" name=""/>
            <p:cNvGrpSpPr/>
            <p:nvPr/>
          </p:nvGrpSpPr>
          <p:grpSpPr>
            <a:xfrm>
              <a:off x="949320" y="3836880"/>
              <a:ext cx="304920" cy="182520"/>
              <a:chOff x="949320" y="3836880"/>
              <a:chExt cx="304920" cy="1825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949320" y="3836880"/>
                <a:ext cx="152280" cy="182520"/>
                <a:chOff x="949320" y="3836880"/>
                <a:chExt cx="152280" cy="1825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949320" y="3836880"/>
                  <a:ext cx="152280" cy="182520"/>
                </a:xfrm>
                <a:prstGeom prst="ellipse">
                  <a:avLst/>
                </a:prstGeom>
                <a:solidFill>
                  <a:srgbClr val="ffcdce"/>
                </a:solidFill>
                <a:ln w="93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000080" y="3897720"/>
                  <a:ext cx="50400" cy="60840"/>
                </a:xfrm>
                <a:prstGeom prst="ellipse">
                  <a:avLst/>
                </a:prstGeom>
                <a:solidFill>
                  <a:srgbClr val="ffcdce"/>
                </a:solidFill>
                <a:ln w="93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101600" y="3836880"/>
                <a:ext cx="152640" cy="182520"/>
                <a:chOff x="1101600" y="3836880"/>
                <a:chExt cx="152640" cy="1825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101600" y="3836880"/>
                  <a:ext cx="152640" cy="182520"/>
                </a:xfrm>
                <a:prstGeom prst="ellipse">
                  <a:avLst/>
                </a:prstGeom>
                <a:solidFill>
                  <a:srgbClr val="ffcdce"/>
                </a:solidFill>
                <a:ln w="93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152360" y="3897720"/>
                  <a:ext cx="50400" cy="60840"/>
                </a:xfrm>
                <a:prstGeom prst="ellipse">
                  <a:avLst/>
                </a:prstGeom>
                <a:solidFill>
                  <a:srgbClr val="ffcdce"/>
                </a:solidFill>
                <a:ln w="93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949320" y="3958920"/>
              <a:ext cx="304920" cy="182520"/>
              <a:chOff x="949320" y="3958920"/>
              <a:chExt cx="304920" cy="18252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949320" y="3958920"/>
                <a:ext cx="152280" cy="182520"/>
                <a:chOff x="949320" y="3958920"/>
                <a:chExt cx="152280" cy="1825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949320" y="3958920"/>
                  <a:ext cx="152280" cy="182520"/>
                </a:xfrm>
                <a:prstGeom prst="ellipse">
                  <a:avLst/>
                </a:prstGeom>
                <a:solidFill>
                  <a:srgbClr val="ffcdce"/>
                </a:solidFill>
                <a:ln w="93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00080" y="4019760"/>
                  <a:ext cx="50400" cy="60840"/>
                </a:xfrm>
                <a:prstGeom prst="ellipse">
                  <a:avLst/>
                </a:prstGeom>
                <a:solidFill>
                  <a:srgbClr val="ffcdce"/>
                </a:solidFill>
                <a:ln w="93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101600" y="3958920"/>
                <a:ext cx="152640" cy="182520"/>
                <a:chOff x="1101600" y="3958920"/>
                <a:chExt cx="152640" cy="1825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101600" y="3958920"/>
                  <a:ext cx="152640" cy="182520"/>
                </a:xfrm>
                <a:prstGeom prst="ellipse">
                  <a:avLst/>
                </a:prstGeom>
                <a:solidFill>
                  <a:srgbClr val="ffcdce"/>
                </a:solidFill>
                <a:ln w="93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52360" y="4019760"/>
                  <a:ext cx="50400" cy="60840"/>
                </a:xfrm>
                <a:prstGeom prst="ellipse">
                  <a:avLst/>
                </a:prstGeom>
                <a:solidFill>
                  <a:srgbClr val="ffcdce"/>
                </a:solidFill>
                <a:ln w="9360">
                  <a:solidFill>
                    <a:srgbClr val="cc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4" name=""/>
          <p:cNvGrpSpPr/>
          <p:nvPr/>
        </p:nvGrpSpPr>
        <p:grpSpPr>
          <a:xfrm>
            <a:off x="949320" y="3836880"/>
            <a:ext cx="380520" cy="381240"/>
            <a:chOff x="949320" y="3836880"/>
            <a:chExt cx="380520" cy="381240"/>
          </a:xfrm>
        </p:grpSpPr>
        <p:grpSp>
          <p:nvGrpSpPr>
            <p:cNvPr id="175" name=""/>
            <p:cNvGrpSpPr/>
            <p:nvPr/>
          </p:nvGrpSpPr>
          <p:grpSpPr>
            <a:xfrm>
              <a:off x="1194120" y="3945600"/>
              <a:ext cx="135720" cy="163440"/>
              <a:chOff x="1194120" y="3945600"/>
              <a:chExt cx="135720" cy="163440"/>
            </a:xfrm>
          </p:grpSpPr>
          <p:sp>
            <p:nvSpPr>
              <p:cNvPr id="176" name=""/>
              <p:cNvSpPr/>
              <p:nvPr/>
            </p:nvSpPr>
            <p:spPr>
              <a:xfrm>
                <a:off x="1194120" y="3945600"/>
                <a:ext cx="135720" cy="16344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239480" y="3999960"/>
                <a:ext cx="45000" cy="5436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112400" y="3945600"/>
              <a:ext cx="136080" cy="163440"/>
              <a:chOff x="1112400" y="3945600"/>
              <a:chExt cx="136080" cy="163440"/>
            </a:xfrm>
          </p:grpSpPr>
          <p:sp>
            <p:nvSpPr>
              <p:cNvPr id="179" name=""/>
              <p:cNvSpPr/>
              <p:nvPr/>
            </p:nvSpPr>
            <p:spPr>
              <a:xfrm>
                <a:off x="1112400" y="3945600"/>
                <a:ext cx="136080" cy="16344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57760" y="3999960"/>
                <a:ext cx="45000" cy="5436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49320" y="4000320"/>
              <a:ext cx="136080" cy="163440"/>
              <a:chOff x="949320" y="4000320"/>
              <a:chExt cx="136080" cy="163440"/>
            </a:xfrm>
          </p:grpSpPr>
          <p:sp>
            <p:nvSpPr>
              <p:cNvPr id="182" name=""/>
              <p:cNvSpPr/>
              <p:nvPr/>
            </p:nvSpPr>
            <p:spPr>
              <a:xfrm>
                <a:off x="949320" y="4000320"/>
                <a:ext cx="136080" cy="16344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94680" y="4054680"/>
                <a:ext cx="45000" cy="5436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003680" y="4054680"/>
              <a:ext cx="135720" cy="163440"/>
              <a:chOff x="1003680" y="4054680"/>
              <a:chExt cx="135720" cy="163440"/>
            </a:xfrm>
          </p:grpSpPr>
          <p:sp>
            <p:nvSpPr>
              <p:cNvPr id="185" name=""/>
              <p:cNvSpPr/>
              <p:nvPr/>
            </p:nvSpPr>
            <p:spPr>
              <a:xfrm>
                <a:off x="1003680" y="4054680"/>
                <a:ext cx="135720" cy="16344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049040" y="4109040"/>
                <a:ext cx="45000" cy="5436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949320" y="3836880"/>
              <a:ext cx="136080" cy="163440"/>
              <a:chOff x="949320" y="3836880"/>
              <a:chExt cx="136080" cy="163440"/>
            </a:xfrm>
          </p:grpSpPr>
          <p:sp>
            <p:nvSpPr>
              <p:cNvPr id="188" name=""/>
              <p:cNvSpPr/>
              <p:nvPr/>
            </p:nvSpPr>
            <p:spPr>
              <a:xfrm>
                <a:off x="949320" y="3836880"/>
                <a:ext cx="136080" cy="16344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94680" y="3891240"/>
                <a:ext cx="45000" cy="5436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1085400" y="3836880"/>
              <a:ext cx="135720" cy="163440"/>
              <a:chOff x="1085400" y="3836880"/>
              <a:chExt cx="135720" cy="163440"/>
            </a:xfrm>
          </p:grpSpPr>
          <p:sp>
            <p:nvSpPr>
              <p:cNvPr id="191" name=""/>
              <p:cNvSpPr/>
              <p:nvPr/>
            </p:nvSpPr>
            <p:spPr>
              <a:xfrm>
                <a:off x="1085400" y="3836880"/>
                <a:ext cx="135720" cy="16344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130760" y="3891240"/>
                <a:ext cx="45000" cy="5436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112400" y="4054680"/>
              <a:ext cx="136080" cy="163440"/>
              <a:chOff x="1112400" y="4054680"/>
              <a:chExt cx="136080" cy="163440"/>
            </a:xfrm>
          </p:grpSpPr>
          <p:sp>
            <p:nvSpPr>
              <p:cNvPr id="194" name=""/>
              <p:cNvSpPr/>
              <p:nvPr/>
            </p:nvSpPr>
            <p:spPr>
              <a:xfrm>
                <a:off x="1112400" y="4054680"/>
                <a:ext cx="136080" cy="16344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57760" y="4109040"/>
                <a:ext cx="45000" cy="5436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949320" y="3945600"/>
              <a:ext cx="136080" cy="163440"/>
              <a:chOff x="949320" y="3945600"/>
              <a:chExt cx="136080" cy="163440"/>
            </a:xfrm>
          </p:grpSpPr>
          <p:sp>
            <p:nvSpPr>
              <p:cNvPr id="197" name=""/>
              <p:cNvSpPr/>
              <p:nvPr/>
            </p:nvSpPr>
            <p:spPr>
              <a:xfrm>
                <a:off x="949320" y="3945600"/>
                <a:ext cx="136080" cy="16344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994680" y="3999960"/>
                <a:ext cx="45000" cy="54360"/>
              </a:xfrm>
              <a:prstGeom prst="ellipse">
                <a:avLst/>
              </a:prstGeom>
              <a:solidFill>
                <a:srgbClr val="ffcdce"/>
              </a:solidFill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15800" y="398952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2120" y="627552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52920" y="6046920"/>
            <a:ext cx="48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卵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57840" y="6046920"/>
            <a:ext cx="79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分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92320" y="6351480"/>
            <a:ext cx="3809880" cy="763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701800" y="1703520"/>
            <a:ext cx="4991400" cy="1771560"/>
            <a:chOff x="2701800" y="1703520"/>
            <a:chExt cx="4991400" cy="1771560"/>
          </a:xfrm>
        </p:grpSpPr>
        <p:sp>
          <p:nvSpPr>
            <p:cNvPr id="205" name=""/>
            <p:cNvSpPr/>
            <p:nvPr/>
          </p:nvSpPr>
          <p:spPr>
            <a:xfrm rot="19773600">
              <a:off x="2814840" y="28605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外胚层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01800" y="2160720"/>
              <a:ext cx="2532240" cy="1314360"/>
            </a:xfrm>
            <a:custGeom>
              <a:avLst/>
              <a:gdLst/>
              <a:ahLst/>
              <a:rect l="l" t="t" r="r" b="b"/>
              <a:pathLst>
                <a:path w="1595" h="828">
                  <a:moveTo>
                    <a:pt x="0" y="828"/>
                  </a:moveTo>
                  <a:cubicBezTo>
                    <a:pt x="121" y="758"/>
                    <a:pt x="497" y="534"/>
                    <a:pt x="727" y="406"/>
                  </a:cubicBezTo>
                  <a:cubicBezTo>
                    <a:pt x="957" y="278"/>
                    <a:pt x="1233" y="124"/>
                    <a:pt x="1378" y="62"/>
                  </a:cubicBezTo>
                  <a:cubicBezTo>
                    <a:pt x="1523" y="0"/>
                    <a:pt x="1550" y="41"/>
                    <a:pt x="1595" y="36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70440" y="2035080"/>
              <a:ext cx="141120" cy="263520"/>
            </a:xfrm>
            <a:custGeom>
              <a:avLst/>
              <a:gdLst/>
              <a:ahLst/>
              <a:rect l="l" t="t" r="r" b="b"/>
              <a:pathLst>
                <a:path w="89" h="166">
                  <a:moveTo>
                    <a:pt x="0" y="166"/>
                  </a:moveTo>
                  <a:cubicBezTo>
                    <a:pt x="14" y="137"/>
                    <a:pt x="71" y="35"/>
                    <a:pt x="89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2960" y="2319480"/>
              <a:ext cx="2649600" cy="596880"/>
            </a:xfrm>
            <a:custGeom>
              <a:avLst/>
              <a:gdLst/>
              <a:ahLst/>
              <a:rect l="l" t="t" r="r" b="b"/>
              <a:pathLst>
                <a:path w="1669" h="376">
                  <a:moveTo>
                    <a:pt x="0" y="288"/>
                  </a:moveTo>
                  <a:cubicBezTo>
                    <a:pt x="112" y="300"/>
                    <a:pt x="460" y="376"/>
                    <a:pt x="673" y="358"/>
                  </a:cubicBezTo>
                  <a:cubicBezTo>
                    <a:pt x="886" y="340"/>
                    <a:pt x="1113" y="240"/>
                    <a:pt x="1279" y="180"/>
                  </a:cubicBezTo>
                  <a:cubicBezTo>
                    <a:pt x="1445" y="120"/>
                    <a:pt x="1588" y="37"/>
                    <a:pt x="1669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4040" y="2035080"/>
              <a:ext cx="1217520" cy="811440"/>
            </a:xfrm>
            <a:custGeom>
              <a:avLst/>
              <a:gdLst/>
              <a:ahLst/>
              <a:rect l="l" t="t" r="r" b="b"/>
              <a:pathLst>
                <a:path w="767" h="511">
                  <a:moveTo>
                    <a:pt x="0" y="511"/>
                  </a:moveTo>
                  <a:cubicBezTo>
                    <a:pt x="64" y="469"/>
                    <a:pt x="256" y="341"/>
                    <a:pt x="384" y="256"/>
                  </a:cubicBezTo>
                  <a:cubicBezTo>
                    <a:pt x="512" y="171"/>
                    <a:pt x="687" y="53"/>
                    <a:pt x="767" y="0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78600" y="2846520"/>
              <a:ext cx="461880" cy="12204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0" y="0"/>
                  </a:moveTo>
                  <a:cubicBezTo>
                    <a:pt x="48" y="13"/>
                    <a:pt x="243" y="64"/>
                    <a:pt x="291" y="77"/>
                  </a:cubicBezTo>
                </a:path>
              </a:pathLst>
            </a:custGeom>
            <a:noFill/>
            <a:ln w="190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013000">
              <a:off x="3882960" y="216036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神经管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366600">
              <a:off x="4340160" y="2479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表皮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59480" y="278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73680" y="17175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脑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78600" y="2008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脊髓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97560" y="17035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毛、齿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73880" y="20844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甲、爪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701800" y="2541600"/>
            <a:ext cx="6400800" cy="1892160"/>
            <a:chOff x="2701800" y="2541600"/>
            <a:chExt cx="6400800" cy="1892160"/>
          </a:xfrm>
        </p:grpSpPr>
        <p:grpSp>
          <p:nvGrpSpPr>
            <p:cNvPr id="219" name=""/>
            <p:cNvGrpSpPr/>
            <p:nvPr/>
          </p:nvGrpSpPr>
          <p:grpSpPr>
            <a:xfrm>
              <a:off x="2701800" y="2541600"/>
              <a:ext cx="6248520" cy="1892160"/>
              <a:chOff x="2701800" y="2541600"/>
              <a:chExt cx="6248520" cy="1892160"/>
            </a:xfrm>
          </p:grpSpPr>
          <p:sp>
            <p:nvSpPr>
              <p:cNvPr id="220" name=""/>
              <p:cNvSpPr/>
              <p:nvPr/>
            </p:nvSpPr>
            <p:spPr>
              <a:xfrm>
                <a:off x="6207120" y="406548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imes New Roman"/>
                  </a:rPr>
                  <a:t>疏松结缔组织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59200" y="406548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imes New Roman"/>
                  </a:rPr>
                  <a:t>致密结缔组织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30400" y="3699000"/>
                <a:ext cx="106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imes New Roman"/>
                  </a:rPr>
                  <a:t>中胚层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01800" y="3936960"/>
                <a:ext cx="4557960" cy="52560"/>
              </a:xfrm>
              <a:custGeom>
                <a:avLst/>
                <a:gdLst/>
                <a:ahLst/>
                <a:rect l="l" t="t" r="r" b="b"/>
                <a:pathLst>
                  <a:path w="2871" h="33">
                    <a:moveTo>
                      <a:pt x="0" y="33"/>
                    </a:moveTo>
                    <a:cubicBezTo>
                      <a:pt x="478" y="28"/>
                      <a:pt x="2273" y="7"/>
                      <a:pt x="2871" y="0"/>
                    </a:cubicBezTo>
                  </a:path>
                </a:pathLst>
              </a:custGeom>
              <a:noFill/>
              <a:ln w="28440">
                <a:solidFill>
                  <a:srgbClr val="e8b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68840" y="3652920"/>
                <a:ext cx="587160" cy="323640"/>
              </a:xfrm>
              <a:custGeom>
                <a:avLst/>
                <a:gdLst/>
                <a:ahLst/>
                <a:rect l="l" t="t" r="r" b="b"/>
                <a:pathLst>
                  <a:path w="370" h="204">
                    <a:moveTo>
                      <a:pt x="0" y="204"/>
                    </a:moveTo>
                    <a:cubicBezTo>
                      <a:pt x="129" y="178"/>
                      <a:pt x="144" y="189"/>
                      <a:pt x="255" y="115"/>
                    </a:cubicBezTo>
                    <a:cubicBezTo>
                      <a:pt x="297" y="87"/>
                      <a:pt x="346" y="24"/>
                      <a:pt x="370" y="0"/>
                    </a:cubicBezTo>
                  </a:path>
                </a:pathLst>
              </a:custGeom>
              <a:noFill/>
              <a:ln w="28440">
                <a:solidFill>
                  <a:srgbClr val="e8b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073400" y="3976560"/>
                <a:ext cx="347760" cy="182880"/>
              </a:xfrm>
              <a:custGeom>
                <a:avLst/>
                <a:gdLst/>
                <a:ahLst/>
                <a:rect l="l" t="t" r="r" b="b"/>
                <a:pathLst>
                  <a:path w="219" h="115">
                    <a:moveTo>
                      <a:pt x="0" y="0"/>
                    </a:moveTo>
                    <a:cubicBezTo>
                      <a:pt x="61" y="10"/>
                      <a:pt x="160" y="96"/>
                      <a:pt x="219" y="115"/>
                    </a:cubicBezTo>
                  </a:path>
                </a:pathLst>
              </a:custGeom>
              <a:noFill/>
              <a:ln w="28440">
                <a:solidFill>
                  <a:srgbClr val="e8b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378320" y="3754440"/>
                <a:ext cx="914400" cy="203040"/>
              </a:xfrm>
              <a:custGeom>
                <a:avLst/>
                <a:gdLst/>
                <a:ahLst/>
                <a:rect l="l" t="t" r="r" b="b"/>
                <a:pathLst>
                  <a:path w="576" h="128">
                    <a:moveTo>
                      <a:pt x="0" y="128"/>
                    </a:moveTo>
                    <a:cubicBezTo>
                      <a:pt x="111" y="102"/>
                      <a:pt x="465" y="26"/>
                      <a:pt x="576" y="0"/>
                    </a:cubicBezTo>
                  </a:path>
                </a:pathLst>
              </a:custGeom>
              <a:noFill/>
              <a:ln w="28440">
                <a:solidFill>
                  <a:srgbClr val="e8b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35520" y="3957480"/>
                <a:ext cx="720720" cy="162000"/>
              </a:xfrm>
              <a:custGeom>
                <a:avLst/>
                <a:gdLst/>
                <a:ahLst/>
                <a:rect l="l" t="t" r="r" b="b"/>
                <a:pathLst>
                  <a:path w="454" h="102">
                    <a:moveTo>
                      <a:pt x="0" y="0"/>
                    </a:moveTo>
                    <a:cubicBezTo>
                      <a:pt x="17" y="26"/>
                      <a:pt x="200" y="25"/>
                      <a:pt x="217" y="51"/>
                    </a:cubicBezTo>
                    <a:cubicBezTo>
                      <a:pt x="255" y="96"/>
                      <a:pt x="405" y="92"/>
                      <a:pt x="454" y="102"/>
                    </a:cubicBezTo>
                  </a:path>
                </a:pathLst>
              </a:custGeom>
              <a:noFill/>
              <a:ln w="28440">
                <a:solidFill>
                  <a:srgbClr val="e8b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130800" y="3684600"/>
                <a:ext cx="484200" cy="246240"/>
              </a:xfrm>
              <a:custGeom>
                <a:avLst/>
                <a:gdLst/>
                <a:ahLst/>
                <a:rect l="l" t="t" r="r" b="b"/>
                <a:pathLst>
                  <a:path w="305" h="155">
                    <a:moveTo>
                      <a:pt x="0" y="155"/>
                    </a:moveTo>
                    <a:cubicBezTo>
                      <a:pt x="32" y="144"/>
                      <a:pt x="146" y="109"/>
                      <a:pt x="190" y="90"/>
                    </a:cubicBezTo>
                    <a:cubicBezTo>
                      <a:pt x="241" y="64"/>
                      <a:pt x="286" y="15"/>
                      <a:pt x="305" y="0"/>
                    </a:cubicBezTo>
                  </a:path>
                </a:pathLst>
              </a:custGeom>
              <a:noFill/>
              <a:ln w="28440">
                <a:solidFill>
                  <a:srgbClr val="e8b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96240" y="3247920"/>
                <a:ext cx="809640" cy="76320"/>
              </a:xfrm>
              <a:custGeom>
                <a:avLst/>
                <a:gdLst/>
                <a:ahLst/>
                <a:rect l="l" t="t" r="r" b="b"/>
                <a:pathLst>
                  <a:path w="510" h="48">
                    <a:moveTo>
                      <a:pt x="0" y="25"/>
                    </a:moveTo>
                    <a:cubicBezTo>
                      <a:pt x="65" y="48"/>
                      <a:pt x="217" y="15"/>
                      <a:pt x="281" y="38"/>
                    </a:cubicBezTo>
                    <a:cubicBezTo>
                      <a:pt x="368" y="34"/>
                      <a:pt x="467" y="13"/>
                      <a:pt x="510" y="0"/>
                    </a:cubicBezTo>
                  </a:path>
                </a:pathLst>
              </a:custGeom>
              <a:noFill/>
              <a:ln w="28440">
                <a:solidFill>
                  <a:srgbClr val="e8b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57760" y="3957480"/>
                <a:ext cx="1135080" cy="182880"/>
              </a:xfrm>
              <a:custGeom>
                <a:avLst/>
                <a:gdLst/>
                <a:ahLst/>
                <a:rect l="l" t="t" r="r" b="b"/>
                <a:pathLst>
                  <a:path w="715" h="115">
                    <a:moveTo>
                      <a:pt x="0" y="0"/>
                    </a:moveTo>
                    <a:cubicBezTo>
                      <a:pt x="179" y="20"/>
                      <a:pt x="578" y="86"/>
                      <a:pt x="715" y="115"/>
                    </a:cubicBezTo>
                  </a:path>
                </a:pathLst>
              </a:custGeom>
              <a:noFill/>
              <a:ln w="28440">
                <a:solidFill>
                  <a:srgbClr val="e8b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816600" y="2862360"/>
                <a:ext cx="685800" cy="608040"/>
              </a:xfrm>
              <a:custGeom>
                <a:avLst/>
                <a:gdLst/>
                <a:ahLst/>
                <a:rect l="l" t="t" r="r" b="b"/>
                <a:pathLst>
                  <a:path w="432" h="383">
                    <a:moveTo>
                      <a:pt x="0" y="383"/>
                    </a:moveTo>
                    <a:cubicBezTo>
                      <a:pt x="7" y="380"/>
                      <a:pt x="168" y="211"/>
                      <a:pt x="177" y="204"/>
                    </a:cubicBezTo>
                    <a:cubicBezTo>
                      <a:pt x="204" y="164"/>
                      <a:pt x="366" y="56"/>
                      <a:pt x="432" y="0"/>
                    </a:cubicBezTo>
                  </a:path>
                </a:pathLst>
              </a:custGeom>
              <a:noFill/>
              <a:ln w="28440">
                <a:solidFill>
                  <a:srgbClr val="e8b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97440" y="337968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imes New Roman"/>
                  </a:rPr>
                  <a:t>软骨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302000" y="398952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imes New Roman"/>
                  </a:rPr>
                  <a:t>骨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6400" y="353232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imes New Roman"/>
                  </a:rPr>
                  <a:t>肌肉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78520" y="3394080"/>
                <a:ext cx="190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imes New Roman"/>
                  </a:rPr>
                  <a:t>形成血的组织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50120" y="25416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imes New Roman"/>
                  </a:rPr>
                  <a:t>髓样组织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578720" y="293688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imes New Roman"/>
                  </a:rPr>
                  <a:t>淋巴组织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197480" y="36846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泌尿生殖系统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4920" y="3836880"/>
            <a:ext cx="304560" cy="304560"/>
            <a:chOff x="34920" y="383688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4920" y="3836880"/>
              <a:ext cx="304560" cy="304560"/>
            </a:xfrm>
            <a:prstGeom prst="ellipse">
              <a:avLst/>
            </a:prstGeom>
            <a:solidFill>
              <a:srgbClr val="ffcdce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6440" y="3938400"/>
              <a:ext cx="101160" cy="101520"/>
            </a:xfrm>
            <a:prstGeom prst="ellipse">
              <a:avLst/>
            </a:prstGeom>
            <a:solidFill>
              <a:srgbClr val="ffcdce"/>
            </a:solidFill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625840" y="4417200"/>
            <a:ext cx="6270480" cy="1783440"/>
            <a:chOff x="2625840" y="4417200"/>
            <a:chExt cx="6270480" cy="1783440"/>
          </a:xfrm>
        </p:grpSpPr>
        <p:sp>
          <p:nvSpPr>
            <p:cNvPr id="243" name=""/>
            <p:cNvSpPr/>
            <p:nvPr/>
          </p:nvSpPr>
          <p:spPr>
            <a:xfrm>
              <a:off x="2625840" y="4606920"/>
              <a:ext cx="5754600" cy="758880"/>
            </a:xfrm>
            <a:custGeom>
              <a:avLst/>
              <a:gdLst/>
              <a:ahLst/>
              <a:rect l="l" t="t" r="r" b="b"/>
              <a:pathLst>
                <a:path w="3625" h="478">
                  <a:moveTo>
                    <a:pt x="0" y="0"/>
                  </a:moveTo>
                  <a:cubicBezTo>
                    <a:pt x="66" y="34"/>
                    <a:pt x="238" y="142"/>
                    <a:pt x="396" y="204"/>
                  </a:cubicBezTo>
                  <a:cubicBezTo>
                    <a:pt x="554" y="266"/>
                    <a:pt x="701" y="332"/>
                    <a:pt x="946" y="370"/>
                  </a:cubicBezTo>
                  <a:cubicBezTo>
                    <a:pt x="1191" y="408"/>
                    <a:pt x="1419" y="416"/>
                    <a:pt x="1865" y="434"/>
                  </a:cubicBezTo>
                  <a:cubicBezTo>
                    <a:pt x="2311" y="452"/>
                    <a:pt x="3258" y="469"/>
                    <a:pt x="3625" y="478"/>
                  </a:cubicBezTo>
                </a:path>
              </a:pathLst>
            </a:custGeom>
            <a:noFill/>
            <a:ln w="284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533600">
              <a:off x="2799720" y="4612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内胚层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48760" y="4994280"/>
              <a:ext cx="606240" cy="357120"/>
            </a:xfrm>
            <a:custGeom>
              <a:avLst/>
              <a:gdLst/>
              <a:ahLst/>
              <a:rect l="l" t="t" r="r" b="b"/>
              <a:pathLst>
                <a:path w="382" h="225">
                  <a:moveTo>
                    <a:pt x="0" y="225"/>
                  </a:moveTo>
                  <a:cubicBezTo>
                    <a:pt x="41" y="197"/>
                    <a:pt x="179" y="178"/>
                    <a:pt x="216" y="141"/>
                  </a:cubicBezTo>
                  <a:cubicBezTo>
                    <a:pt x="278" y="105"/>
                    <a:pt x="354" y="24"/>
                    <a:pt x="382" y="0"/>
                  </a:cubicBezTo>
                </a:path>
              </a:pathLst>
            </a:custGeom>
            <a:noFill/>
            <a:ln w="284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0040" y="4970520"/>
              <a:ext cx="709560" cy="363240"/>
            </a:xfrm>
            <a:custGeom>
              <a:avLst/>
              <a:gdLst/>
              <a:ahLst/>
              <a:rect l="l" t="t" r="r" b="b"/>
              <a:pathLst>
                <a:path w="447" h="229">
                  <a:moveTo>
                    <a:pt x="0" y="205"/>
                  </a:moveTo>
                  <a:cubicBezTo>
                    <a:pt x="71" y="229"/>
                    <a:pt x="353" y="41"/>
                    <a:pt x="447" y="0"/>
                  </a:cubicBezTo>
                </a:path>
              </a:pathLst>
            </a:custGeom>
            <a:noFill/>
            <a:ln w="284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16720" y="5518080"/>
              <a:ext cx="527040" cy="487440"/>
            </a:xfrm>
            <a:custGeom>
              <a:avLst/>
              <a:gdLst/>
              <a:ahLst/>
              <a:rect l="l" t="t" r="r" b="b"/>
              <a:pathLst>
                <a:path w="332" h="307">
                  <a:moveTo>
                    <a:pt x="0" y="0"/>
                  </a:moveTo>
                  <a:cubicBezTo>
                    <a:pt x="18" y="53"/>
                    <a:pt x="133" y="142"/>
                    <a:pt x="166" y="192"/>
                  </a:cubicBezTo>
                  <a:cubicBezTo>
                    <a:pt x="178" y="240"/>
                    <a:pt x="297" y="283"/>
                    <a:pt x="332" y="307"/>
                  </a:cubicBezTo>
                </a:path>
              </a:pathLst>
            </a:custGeom>
            <a:noFill/>
            <a:ln w="284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00840" y="5298840"/>
              <a:ext cx="1123920" cy="300240"/>
            </a:xfrm>
            <a:custGeom>
              <a:avLst/>
              <a:gdLst/>
              <a:ahLst/>
              <a:rect l="l" t="t" r="r" b="b"/>
              <a:pathLst>
                <a:path w="708" h="189">
                  <a:moveTo>
                    <a:pt x="0" y="0"/>
                  </a:moveTo>
                  <a:cubicBezTo>
                    <a:pt x="7" y="1"/>
                    <a:pt x="123" y="58"/>
                    <a:pt x="152" y="69"/>
                  </a:cubicBezTo>
                  <a:cubicBezTo>
                    <a:pt x="272" y="120"/>
                    <a:pt x="613" y="150"/>
                    <a:pt x="708" y="189"/>
                  </a:cubicBezTo>
                </a:path>
              </a:pathLst>
            </a:custGeom>
            <a:noFill/>
            <a:ln w="284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00520" y="4829040"/>
              <a:ext cx="812880" cy="303120"/>
            </a:xfrm>
            <a:custGeom>
              <a:avLst/>
              <a:gdLst/>
              <a:ahLst/>
              <a:rect l="l" t="t" r="r" b="b"/>
              <a:pathLst>
                <a:path w="512" h="191">
                  <a:moveTo>
                    <a:pt x="0" y="191"/>
                  </a:moveTo>
                  <a:cubicBezTo>
                    <a:pt x="59" y="187"/>
                    <a:pt x="219" y="142"/>
                    <a:pt x="304" y="110"/>
                  </a:cubicBezTo>
                  <a:cubicBezTo>
                    <a:pt x="389" y="78"/>
                    <a:pt x="432" y="24"/>
                    <a:pt x="512" y="0"/>
                  </a:cubicBezTo>
                </a:path>
              </a:pathLst>
            </a:custGeom>
            <a:noFill/>
            <a:ln w="284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95720" y="453708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呼吸系统上皮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05560" y="4962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消化道上皮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86840" y="51465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81920" y="461304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67520" y="46130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67520" y="538956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甲状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91560" y="583236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</a:rPr>
                <a:t>甲状旁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711440" y="3303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外胚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11440" y="3760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胚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11440" y="4294080"/>
            <a:ext cx="13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内胚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406520" y="3532320"/>
            <a:ext cx="380520" cy="990360"/>
            <a:chOff x="1406520" y="3532320"/>
            <a:chExt cx="380520" cy="990360"/>
          </a:xfrm>
        </p:grpSpPr>
        <p:sp>
          <p:nvSpPr>
            <p:cNvPr id="261" name=""/>
            <p:cNvSpPr/>
            <p:nvPr/>
          </p:nvSpPr>
          <p:spPr>
            <a:xfrm>
              <a:off x="1406520" y="3532320"/>
              <a:ext cx="317160" cy="990360"/>
            </a:xfrm>
            <a:custGeom>
              <a:avLst/>
              <a:gdLst>
                <a:gd name="textAreaLeft" fmla="*/ 202680 w 317160"/>
                <a:gd name="textAreaRight" fmla="*/ 317520 w 31716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585"/>
                  </a:lnTo>
                  <a:cubicBezTo>
                    <a:pt x="10800" y="9485"/>
                    <a:pt x="5400" y="10385"/>
                    <a:pt x="0" y="10385"/>
                  </a:cubicBezTo>
                  <a:cubicBezTo>
                    <a:pt x="5400" y="10385"/>
                    <a:pt x="10800" y="11285"/>
                    <a:pt x="10800" y="1218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33240" y="3989160"/>
              <a:ext cx="253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425600" y="4070520"/>
            <a:ext cx="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22320" y="52214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生殖细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115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（二）细胞分化的潜能随着个体发育进程逐渐“缩窄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4880" y="1004760"/>
            <a:ext cx="2070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全能干细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细胞期之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3680" y="1004760"/>
            <a:ext cx="2109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多能干细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胚层形成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06040" y="1004760"/>
            <a:ext cx="1621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单能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器官发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16360" y="14367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56360" y="143676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70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大多数植物和少数低等动物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如水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的体细胞仍具有全能性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高等动物至成体期，除一些组织器官保留了部分未分化的干细胞之外，其余均为终末分化细胞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终末分化细胞的</a:t>
            </a:r>
            <a:r>
              <a:rPr b="1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细胞核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具有全能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在一定条件下，细胞表达其全部遗传信息进而发育成完整的充分分化的机体的过程。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“多利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(Dolly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羊 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148360" y="2924280"/>
            <a:ext cx="3995640" cy="3933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39607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785400" y="602100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我国第一头体细胞克隆猪诞生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260280"/>
            <a:ext cx="914400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二、细胞决定与细胞分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（一）细胞决定先于细胞分化并制约着分化的方向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细胞决定：在个体发育过程中，细胞在发生可识别的分化特征之前就已经确定了未来的发育命运，只能向特定方向分化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537372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（二）细胞决定具有遗传稳定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50920" y="189000"/>
            <a:ext cx="69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三、细胞的去分化和转分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9079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某些条件下，分化了的细胞又回到未分化状态，这一变化过程称为去分化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在高度分化的动物细胞中还可见到另一种现象，即从一种分化状态转变为另一种分化状态，这种情况称为转分化。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404640"/>
            <a:ext cx="9144000" cy="24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四、 细胞分化的时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空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时间上的分化：一个细胞在不同发育阶段可以有不同的形态结构和功能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空间上的分化：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同一种细胞的后代，由于每种细胞所处的空间位置的不同，环境的不同，则可以有不同的形态和功能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16000" y="189000"/>
            <a:ext cx="78487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五、细胞分裂与细胞分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细胞分裂和细胞分化，两者之间有密切的联系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细胞分裂旺盛时分化变缓，分化较高时分裂速度减慢是个体生长发育的一般规律。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23:53:49Z</dcterms:created>
  <dc:creator>生物与遗传</dc:creator>
  <dc:description/>
  <dc:language>en-US</dc:language>
  <cp:lastModifiedBy>hc</cp:lastModifiedBy>
  <dcterms:modified xsi:type="dcterms:W3CDTF">2012-11-06T15:17:48Z</dcterms:modified>
  <cp:revision>136</cp:revision>
  <dc:subject/>
  <dc:title>没有幻灯片标题</dc:title>
</cp:coreProperties>
</file>