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3B7-2426-471B-9710-0F3FF1D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660-FDFB-4A6D-9FA5-B7AD5439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2DB-DC1D-4E33-9813-AB676CA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C1F-BA3B-431C-9E95-C501C9C3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AD6-1688-4283-BCF0-97E1A0A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895-C597-4A23-8C91-0EF9A6EA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8D9-C4DC-480E-883B-5C2249E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41A-50B1-4C69-A83F-4903076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64E-2D1A-4CF5-A471-D1EAB33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217-65B6-4E18-90B4-89EED69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2A3-A5A3-4FAA-B393-2C656C1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4E4-DEAC-4ECA-AA40-59CAB78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6A8A-B410-4BB1-840B-04FF650F4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49016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组织学与胚胎学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( histology and embryology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79720" y="2565360"/>
            <a:ext cx="221436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248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1413000"/>
            <a:ext cx="345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电子显微镜术（简称电镜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镜下结构称超微结构，可放大几万倍至几十万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189320" cy="54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DD1-7FB8-4B61-AB12-B82F5BC71ED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333360"/>
            <a:ext cx="3962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透射电镜 ：观察组织、细胞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内部超微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辨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n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本制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固定 （戊二醛等）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包埋（环氧树脂）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切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-80nm)  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染色（醋酸铀和柠檬酸铅等重金属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本在荧光屏上呈黑白反差的结构影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电子密度高、电子密度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被重金属浸染呈黑色的结构，称电子密度高；反之，浅染的部分称电子密度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057640" y="620640"/>
            <a:ext cx="3881520" cy="52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28C-124E-4A87-BC2D-FC7CB0F4D63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03280" y="189000"/>
            <a:ext cx="273708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扫描电镜 ：用于观察组织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表面的立体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辨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-7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89680" y="0"/>
            <a:ext cx="4054320" cy="504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432108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92E-815F-4FBC-A992-0796590DEF2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40305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三）组织化学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1052640"/>
            <a:ext cx="770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应用化学、物理、生物化学、免疫学或分子生物学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理和技术，与组织学技术相结合而产生的技术，能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组织切片定性、定位地显示某种物质的存在与否、以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布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组织化学术：主要显示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糖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反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脂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核酸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酶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免疫组织化学术：应用标记的特异性抗体和组织中相应的肽或蛋白质结合，然后通过显微镜观察标记物，而获知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蛋白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分布部位及相对含量。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特异性强，敏感度高，应用广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位杂交术：即核酸分子杂交组织化学术，用于检测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基因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DNA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片段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有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及在转录水平检测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基因的活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mRNA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975-B694-4D9E-ABDE-552B22263EA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187280" y="692280"/>
            <a:ext cx="65534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49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四）放射自显影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活细胞对放射性核素或其标记的物质的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入，以显示该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细胞的功能状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或该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物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织和细胞内的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代谢过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五）图像分析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用数学和统计学原理对组织切片提供的平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像进行分析，从而获得立体的组织和细胞内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有形成分的数量、体积、表面积等参数。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续的组织切片应用计算机进行三维重建，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获得组织微细结构的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立体模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这部分内容称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学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261-63F1-4203-97F8-CF25B0A0F6E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6912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六）细胞培养术和组织工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1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胞培养术：是把从机体取得的细胞在体外模拟体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下进行培养的技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织工程：是用细胞培养术在体外模拟构建机体组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器官的技术。组织工程研究包括四个方面：①生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旺盛的细胞，也称种子细胞；②细胞外基质，可用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材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牛胶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无毒、可被机体吸收的人工合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子材料；③构建组织或器官，即把细胞置于细胞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质中进行三维培养、并形成所需要的形状；④将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物移植机体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260-F717-41CC-927F-57C231A89AF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组织学学习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平面与立体 的关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结构与功能的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静态与动态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分析比较，纵横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404352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织学的主要研究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织和器官分别是如何构成的？人体有哪几种基本组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何谓嗜碱性、嗜酸性、中性、电子密度高、电子密度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织学有哪些常用方法和技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上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2852280"/>
            <a:ext cx="70693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组织学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章  组织学绪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目的要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掌握嗜酸性、嗜碱性、电子密度高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子密度低等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熟悉组织学与胚胎学的基本研究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了解组织学与胚胎学的范围、内容和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研究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了解组织学与胚胎学的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8920" y="1988640"/>
            <a:ext cx="712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组织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stolog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：研究机体微细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构及其相关功能的科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是以显微镜观察组织切片为基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，又称显微解剖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516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定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E1A-21EB-40D2-A7D2-F327BBBAB19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04560" y="30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63800" y="8380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基本组织（总论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00760" y="2438280"/>
            <a:ext cx="533160" cy="1447920"/>
            <a:chOff x="3200760" y="2438280"/>
            <a:chExt cx="533160" cy="1447920"/>
          </a:xfrm>
        </p:grpSpPr>
        <p:sp>
          <p:nvSpPr>
            <p:cNvPr id="53" name=""/>
            <p:cNvSpPr/>
            <p:nvPr/>
          </p:nvSpPr>
          <p:spPr>
            <a:xfrm flipH="1">
              <a:off x="3200760" y="2438280"/>
              <a:ext cx="17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02640" y="2514600"/>
              <a:ext cx="431280" cy="1371600"/>
            </a:xfrm>
            <a:custGeom>
              <a:avLst/>
              <a:gdLst>
                <a:gd name="textAreaLeft" fmla="*/ 276120 w 431280"/>
                <a:gd name="textAreaRight" fmla="*/ 432000 w 431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949120" y="18288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器官、系统（各论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27560" y="4221000"/>
            <a:ext cx="4386960" cy="2197080"/>
            <a:chOff x="2527560" y="4221000"/>
            <a:chExt cx="4386960" cy="2197080"/>
          </a:xfrm>
        </p:grpSpPr>
        <p:sp>
          <p:nvSpPr>
            <p:cNvPr id="57" name=""/>
            <p:cNvSpPr/>
            <p:nvPr/>
          </p:nvSpPr>
          <p:spPr>
            <a:xfrm>
              <a:off x="4708440" y="4221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组织：由形态相似或功能相关的细胞及细胞外基质组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7560" y="4754520"/>
              <a:ext cx="438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器官：几种不同的组织相互结合组成器官，每－器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具有一定的形态结构，并完成一定的生理功能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3880" y="5592600"/>
              <a:ext cx="124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系统：由多个相关器官联合组成，并完成连续的生理活动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如消化系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476360" y="2438280"/>
            <a:ext cx="62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       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织   → 器官→ 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胞外基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19080" y="566640"/>
            <a:ext cx="9183600" cy="5724720"/>
            <a:chOff x="-19080" y="566640"/>
            <a:chExt cx="9183600" cy="5724720"/>
          </a:xfrm>
        </p:grpSpPr>
        <p:sp>
          <p:nvSpPr>
            <p:cNvPr id="62" name=""/>
            <p:cNvSpPr/>
            <p:nvPr/>
          </p:nvSpPr>
          <p:spPr>
            <a:xfrm>
              <a:off x="-19080" y="566640"/>
              <a:ext cx="9144000" cy="57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9080" y="566640"/>
              <a:ext cx="918360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0600" y="304920"/>
            <a:ext cx="1539000" cy="1557000"/>
            <a:chOff x="4800600" y="304920"/>
            <a:chExt cx="1539000" cy="1557000"/>
          </a:xfrm>
        </p:grpSpPr>
        <p:sp>
          <p:nvSpPr>
            <p:cNvPr id="65" name=""/>
            <p:cNvSpPr/>
            <p:nvPr/>
          </p:nvSpPr>
          <p:spPr>
            <a:xfrm>
              <a:off x="5427360" y="3049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上皮组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结缔组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肌组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神经组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380880"/>
              <a:ext cx="457200" cy="1371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组织学常用计量单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3585960"/>
            <a:ext cx="706896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m=1000μ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１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μm=1000 n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0740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、组织学研究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946160"/>
                <a:tab algn="l" pos="3892680"/>
                <a:tab algn="l" pos="5838840"/>
                <a:tab algn="l" pos="7785000"/>
                <a:tab algn="l" pos="9731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一般光学显微镜术（简称光镜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46160"/>
                <a:tab algn="l" pos="3892680"/>
                <a:tab algn="l" pos="5838840"/>
                <a:tab algn="l" pos="7785000"/>
                <a:tab algn="l" pos="9731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镜下结构称光镜结构， 放大倍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， 分辨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μ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观察时，须将组织制成薄片，以利光线通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2320" y="566640"/>
            <a:ext cx="9188280" cy="5724720"/>
            <a:chOff x="-22320" y="566640"/>
            <a:chExt cx="9188280" cy="5724720"/>
          </a:xfrm>
        </p:grpSpPr>
        <p:sp>
          <p:nvSpPr>
            <p:cNvPr id="72" name=""/>
            <p:cNvSpPr/>
            <p:nvPr/>
          </p:nvSpPr>
          <p:spPr>
            <a:xfrm>
              <a:off x="-22320" y="566640"/>
              <a:ext cx="9144000" cy="57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22320" y="566640"/>
              <a:ext cx="91882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-22320" y="566640"/>
            <a:ext cx="9188280" cy="5724720"/>
            <a:chOff x="-22320" y="566640"/>
            <a:chExt cx="9188280" cy="5724720"/>
          </a:xfrm>
        </p:grpSpPr>
        <p:sp>
          <p:nvSpPr>
            <p:cNvPr id="75" name=""/>
            <p:cNvSpPr/>
            <p:nvPr/>
          </p:nvSpPr>
          <p:spPr>
            <a:xfrm>
              <a:off x="-22320" y="566640"/>
              <a:ext cx="9144000" cy="57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22320" y="566640"/>
              <a:ext cx="91882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95280" y="297180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石蜡切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片过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取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固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脱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透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浸蜡包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切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微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厚度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展片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脱蜡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染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脱水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封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940280"/>
            <a:ext cx="74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有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冰冻切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酶组织化学染色），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涂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血液），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铺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疏松结缔组织），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磨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牙和骨）等制作切片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281-683D-4EAC-A03F-C6A97D43D84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36680"/>
            <a:ext cx="74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染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是用染料使无色组织切片着色，增加对比度，便于镜下观察。染色方法很多，但没有一种能使细胞全部结构同时着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酸性染料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伊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坚固绿、橙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碱性染料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苏木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亚申蓝、甲苯胺蓝、碱性品红）、硝酸银等进行染色。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常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23880" y="3733920"/>
            <a:ext cx="7010280" cy="1933920"/>
            <a:chOff x="1523880" y="3733920"/>
            <a:chExt cx="7010280" cy="1933920"/>
          </a:xfrm>
        </p:grpSpPr>
        <p:sp>
          <p:nvSpPr>
            <p:cNvPr id="82" name=""/>
            <p:cNvSpPr/>
            <p:nvPr/>
          </p:nvSpPr>
          <p:spPr>
            <a:xfrm>
              <a:off x="2896920" y="3733920"/>
              <a:ext cx="505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</a:rPr>
                <a:t>苏木精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hematoxyli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：细胞核和胞质内的嗜碱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物质着蓝紫色 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4781520"/>
              <a:ext cx="6705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</a:rPr>
                <a:t>伊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osi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：细胞质基质和间质内的胶原纤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维等着红色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523880" y="3867120"/>
              <a:ext cx="460080" cy="1293840"/>
              <a:chOff x="1523880" y="3867120"/>
              <a:chExt cx="460080" cy="1293840"/>
            </a:xfrm>
          </p:grpSpPr>
          <p:sp>
            <p:nvSpPr>
              <p:cNvPr id="85" name=""/>
              <p:cNvSpPr/>
              <p:nvPr/>
            </p:nvSpPr>
            <p:spPr>
              <a:xfrm flipH="1" rot="10800000">
                <a:off x="1799640" y="4478760"/>
                <a:ext cx="1839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1523880" y="3867120"/>
                <a:ext cx="457200" cy="1293840"/>
              </a:xfrm>
              <a:custGeom>
                <a:avLst/>
                <a:gdLst>
                  <a:gd name="textAreaLeft" fmla="*/ 292680 w 457200"/>
                  <a:gd name="textAreaRight" fmla="*/ 457920 w 457200"/>
                  <a:gd name="textAreaTop" fmla="*/ 33480 h 1293840"/>
                  <a:gd name="textAreaBottom" fmla="*/ 1260360 h 129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610920" y="4191120"/>
            <a:ext cx="9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B2D-6A94-40BF-A0C3-6BA7656228D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87280" y="1052640"/>
            <a:ext cx="7560000" cy="50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嗜碱性：细胞和组织的酸性物质或结构与碱性染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苏木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亲合力强，称嗜碱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嗜酸性：碱性物质或结构与酸性染料（如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伊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力强，称嗜酸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中性：若与两种染料的亲合力均不强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性：银染法中有些组织结构可直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间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硝酸银还原而显示，称此为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1720" y="42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组织学研究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979-E74E-43A8-9A26-9B14367071D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51Z</dcterms:created>
  <dc:creator>张垒</dc:creator>
  <dc:description/>
  <dc:language>en-US</dc:language>
  <cp:lastModifiedBy>张垒</cp:lastModifiedBy>
  <dcterms:modified xsi:type="dcterms:W3CDTF">2004-10-06T16:47:17Z</dcterms:modified>
  <cp:revision>21</cp:revision>
  <dc:subject/>
  <dc:title>组织学与胚胎学</dc:title>
</cp:coreProperties>
</file>