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05E-F54F-4999-A279-23E1F06C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884-B75A-4594-851F-E551135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212-EE0F-47C9-952F-DCC1B80B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1BD-A230-45F4-89B5-D42FB004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083-C86A-48D5-9FB5-B683BE0D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9F49-F653-4B15-9823-233E68FB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9A81-6B6F-4CF7-8A27-E90F1CB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052F-5249-4B6F-A4CF-C129B1ED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EF54-06DE-4F82-B5C7-A327F6E5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E0D-834E-4DF6-AD83-93D3A2C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0AD-4A2A-4920-A7FE-1E1D6BA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E29-4F70-423A-B883-B53DF326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AF66-89E6-403C-B7EF-424BE3A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30F2-B6FA-4088-8C69-2F5A15B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32AC-EEE5-45DA-A5B3-FC45AD73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666C-2514-4D12-B2CB-D37040E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8FA-1DDE-4D4A-8F50-B99F011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8579-70CD-4D6F-A37C-83EFAD43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7166-140C-4AC8-A987-87ACFEDD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86D1-39C1-4714-A492-5E9971D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A980-FA1C-42C4-820E-ECB32F06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D216-3A54-440F-8027-71A0F98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93D-D684-4C19-ADEA-280E6E3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5FBB-3686-4810-AB77-8DF25B3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50E0-C9FB-455B-B02B-958FEE5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26FC-E3A7-4B2D-823F-C07209B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B36E-AE58-42F8-AE22-3F59E7B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4A47-BD69-4C68-A93F-A2A4F0E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7D4A-8753-4F6A-A9CC-F12E52FA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6AED-D124-4C12-81E3-D2437B2C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E2640-3A3F-4CCB-8F56-C8A5C0A1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2031-A1E4-49CF-8CB9-1744963B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C0D4-EF09-46AD-83F3-A27A58A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BB1-010A-48CF-BEB3-6B06AFDE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0D17-2049-4C32-9FFC-8FD50D6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2540-0566-414A-8B5B-E07C3EA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6FE4-ABA0-4BCB-9ED2-2C872429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B2FF-5E69-46DE-B754-4F10AC1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A589-A6CF-43B1-A343-26ACEB80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25E8-C84B-41A3-9FB1-807E8F6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CBD1-EB7F-4076-94B8-794F4BC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D688-738C-4C45-B4A5-93849DC6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8793-2A63-4AA7-A0D8-DEE58C0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886-DFA1-43A4-849B-EC4B13F8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24D-AA5A-41E0-A0CA-683FC6AB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D5C-414B-4F1C-9A46-0380CFB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044-EB5E-4928-AC43-BE28396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08C-1A79-44D2-929F-F15E456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C2CA-3D97-416E-9130-A4EDA59F1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916680" y="6337440"/>
            <a:ext cx="1040040" cy="520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6036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280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796000" y="6337440"/>
            <a:ext cx="1039680" cy="52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2587680" y="6453360"/>
          <a:ext cx="936720" cy="31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87680" y="6453360"/>
                    <a:ext cx="9367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4716360" y="6337440"/>
            <a:ext cx="104004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6C9-C630-4A84-BAD6-31C6376BC059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8080"/>
            <a:ext cx="914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ccd8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2796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844E-0796-4D90-987C-DC1F31806AC8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8d4fe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740A-607F-43C0-9177-137DCE113ACC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05264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1147680"/>
            <a:ext cx="883944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类药材是指本教材其他各章所未收载的药物。包括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藻、菌、地衣类，合称为低等植物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树脂类：为树脂烃、树脂酸、高级醇及酯等多种成分所组成的复杂混合物。易溶于乙醇、乙醚、氯仿等有机溶剂；加热软化而后熔融，燃烧时发出黑烟及明亮火焰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工品：直接或间接用植物为原料经过不同加工处理（如浸泡、加热或蒸馏提炼等）所得到的产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孢子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虫瘿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十一章 其他类药材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1268280"/>
            <a:ext cx="3411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显微鉴定】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座头部横切面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围由子囊壳组成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子囊壳下半部陷于子座内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囊壳内有多数线形子囊，每个子囊内又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线形的子囊孢子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央充满菌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19" b="-69"/>
          <a:stretch/>
        </p:blipFill>
        <p:spPr>
          <a:xfrm>
            <a:off x="3708360" y="1562040"/>
            <a:ext cx="5435640" cy="296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356000" y="4797360"/>
            <a:ext cx="4321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虫草子座显微特征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座横切面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囊壳放大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囊放大（示子囊孢子）</a:t>
            </a:r>
            <a:r>
              <a:rPr b="0" lang="zh-CN" sz="1000" spc="-1" strike="noStrike">
                <a:solidFill>
                  <a:srgbClr val="0033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1484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粗蛋白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甘露醇（即虫草酸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脂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.4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尚含麦角甾醇，维生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烟酸，尿嘧啶，腺嘌呤，腺嘌呤核苷，虫草多糖，生物碱，多种氨基酸和微量元素等。药理作用有增强免疫力、镇咳、祛痰和平喘、抗肿瘤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补肺益肾，止血化痰。用于久咳虚喘，劳嗽咯血，自汗盗汗，阳痿遗精，腰膝酸痛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解析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在湖南桃江某村的一村民这几天胃比较难受，恶心，想吐，头也有点晕。经医生检查，一切正常！这就怪了，该村民思前想后，最终，把怀疑的目光放到了滋补品虫草上，十天前他在本家的松树林下做农活，从地表挖到了几十根似虫似草的东面，村里老者说是虫草，与鸡鸭炖食大补。因自已身体虚弱，几天前炖食了两次便出现了上述症状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正宗的虫草（冬虫夏草）生于青藏高原海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m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寒草甸上，湖南桃江不可能生长。经鉴定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香棒虫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麦角菌科真菌亚香棒虫草</a:t>
            </a:r>
            <a:r>
              <a:rPr b="0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rdyceps hawkesii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Geay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在鳞翅目昆虫的子座及幼虫尸体的复合体。鉴别要点：①表面粗糙具多数突起的疣点。②中部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足突出不明显③子座从虫体头部中央长出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实体短圆柱形，顶端无不孕顶端。④显微鉴别 子座横切面：子囊壳埋生于子座内，烧瓶形或鞋底形。跟虫草很像，实际上是伪品，人服用后，有呕吐、头晕等症状，不可作冬虫夏草代用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亚香棒虫草外，其伪品尚有唇形科植物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蚕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chys geobombycis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Y.Wu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块茎：呈纺锤形，两头略尖；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粉和淀粉混合加工而成的伪造品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呆板而不自然，质硬而重，取本品加碘试液，显蓝紫色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897360" cy="278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303720" cy="2868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343400"/>
            <a:ext cx="1219320" cy="576360"/>
          </a:xfrm>
          <a:prstGeom prst="wedgeRoundRectCallout">
            <a:avLst>
              <a:gd name="adj1" fmla="val 42319"/>
              <a:gd name="adj2" fmla="val -104268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蚕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5157720"/>
            <a:ext cx="87854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冬虫夏草是传统名贵滋补佳品，因此其伪品较多。怎样区别正品与伪品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4365720"/>
            <a:ext cx="1752840" cy="609480"/>
          </a:xfrm>
          <a:prstGeom prst="wedgeRectCallout">
            <a:avLst>
              <a:gd name="adj1" fmla="val -45018"/>
              <a:gd name="adj2" fmla="val -10989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亚香棒虫草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1600200"/>
            <a:ext cx="88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“仙草”、“瑞草”、“不老草”等美称，始载于《神农本草经》，列为上品，有赤、黑、青、白、黄、紫六芝记载。为滋补强壮、固本扶正的珍贵中药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多孔菌科真菌赤芝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Ganoderma lucidu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Leyss.ex Fr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Kar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紫芝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Ganoderma sinens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Zha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u et Zhan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子实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华东、西南等地。有人工大量栽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秋季采收，去泥沙、杂质，阴干或晒干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52388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赤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盖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木栓质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肾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半圆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菌盖半圆形或肾形，下表面密布菌管孔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皮壳坚硬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褐至红褐色，有光泽，具环状棱纹和辐射状皱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柄多侧生，有漆样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气微香，味苦涩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181480"/>
            <a:ext cx="324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 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赤芝</a:t>
            </a:r>
            <a:r>
              <a:rPr b="0" lang="zh-CN" sz="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908520" cy="3406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268280"/>
            <a:ext cx="420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紫芝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与赤芝极相似，主要区别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盖与菌柄的皮壳呈紫黑色或黑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有漆样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肉锈褐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5(b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栽培品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子实体较粗壮、肥厚，菌盖顶面较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的可见皮外壳附有少量粉尘的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褐色孢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5562720"/>
            <a:ext cx="3168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 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紫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702320" y="1600200"/>
            <a:ext cx="3908160" cy="3828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2536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含麦角甾醇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3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4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、三萜类、挥发油、氨基酸及多糖等；孢子粉中含多种氨基酸、甘露醇等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【功效应用】补气安神，止咳平喘。用于心悸气短，眩晕，不眠，乏力，咳喘。现用于治疗冠心病，肝炎，神经衰弱，消化不良，慢性支气管炎，肿瘤，白细胞减少等。现代药理学与临床实践进一步证实了灵芝的药理作用，并证实灵芝多糖是灵芝扶正固本、滋补强壮、延年益寿的主要成分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4581360"/>
            <a:ext cx="86104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间对灵芝的传说有哪些？能否起死回生、延年益寿、长生不老之功效？ 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它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268280"/>
            <a:ext cx="8686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典品－云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为多孔菌科真菌彩绒革盖菌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riolus versicol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.ex Fr.)Que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干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实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670120"/>
            <a:ext cx="548640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鉴定注意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盖呈扇形、半圆形、或贝壳形，常数个叠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面密布灰、褐等色绒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菌丝）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呈多色的狭窄同心性环带，边缘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面无菌管处呈白色，部分管口开裂成齿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革质，不易折断，断面菌肉类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如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7640" y="5418000"/>
            <a:ext cx="2016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6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 芝</a:t>
            </a:r>
            <a:r>
              <a:rPr b="0" lang="zh-CN" sz="1000" spc="-1" strike="noStrike">
                <a:solidFill>
                  <a:srgbClr val="0033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982960" cy="2492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灵芝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noderm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557360"/>
            <a:ext cx="46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447920"/>
            <a:ext cx="420372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混伪品－有柄树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为多孔菌科真菌有柄树舌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noderma gibbosu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s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子实体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区别特征是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土黄色或污黄白色，无漆样光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盖有较稠密同心环沟和环带，边缘圆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柄短而粗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4724280"/>
            <a:ext cx="180000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混伪品树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54600" cy="3017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916680" y="6337440"/>
            <a:ext cx="1040040" cy="520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6036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468468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0280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796000" y="6337440"/>
            <a:ext cx="1039680" cy="520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2522520" y="6337440"/>
            <a:ext cx="1041480" cy="520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十一章 其他类药材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05264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295200" y="12952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一、昆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7560" y="1295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二、冬虫夏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1295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三、灵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1295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四、茯苓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1337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五、猪苓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7240" y="21337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六、乳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七、血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2133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八、海金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0481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九、天然冰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54360" y="3048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十、五倍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048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十一、芦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25424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载于《神农本草经》，列为上品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陶弘景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今出郁州。自然成者，大如三、四升器，外皮黑，细皱，内坚白，形如鸟兽龟鳖者良。其有衔松根对度者，为茯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茯苓自古被视为“中药八珍”之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本品为多孔菌科真菌茯苓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oria coco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chw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Wol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寄生或腐寄生。多寄生于马尾松或赤松的根部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云南、安徽、湖北等地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多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采挖，除去泥沙，反复数次堆置“发汗”与摊开晾至现皱纹、内部水分大部散失后，阴干，称为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茯苓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；鲜茯苓稍干，去外皮后切片，称“茯苓片”，切成方形者称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茯苓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，带淡红色或棕红色者称“赤茯苓”，白色或近白色者称“白茯苓”；中央有松根者称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茯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，外皮则称为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茯苓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1447920"/>
            <a:ext cx="37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个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类球形或不规则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外皮薄而粗糙，棕褐至黑褐，有皱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体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坚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颗粒状，外层淡棕，内部白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少数淡红），有的有松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无臭，味淡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嚼之粘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 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7(a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88000" y="5300640"/>
            <a:ext cx="3529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7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茯苓个</a:t>
            </a:r>
            <a:r>
              <a:rPr b="0" lang="zh-CN" sz="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35560" cy="3200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它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484280"/>
            <a:ext cx="34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67652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皮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为削下的茯苓外皮，形状大小不一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外面棕褐色至黑褐色，内面白色或淡棕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体软质松，略具弹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5157720"/>
            <a:ext cx="3168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7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茯苓皮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264200" cy="3200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284640"/>
            <a:ext cx="2960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1-7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茯苓块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1557360"/>
            <a:ext cx="4707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块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去皮后切制的茯苓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块、片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大小不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表面白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淡红色或淡棕色。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7(c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神  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核中间抱有松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即“茯神木”的白色部分，切成块片状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012000" y="3827520"/>
            <a:ext cx="2592360" cy="2421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56000" y="5373720"/>
            <a:ext cx="1346400" cy="576360"/>
          </a:xfrm>
          <a:prstGeom prst="wedgeRoundRectCallout">
            <a:avLst>
              <a:gd name="adj1" fmla="val 91745"/>
              <a:gd name="adj2" fmla="val 6472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茯神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6360" y="3933720"/>
            <a:ext cx="863640" cy="1184400"/>
          </a:xfrm>
          <a:prstGeom prst="cloudCallout">
            <a:avLst>
              <a:gd name="adj1" fmla="val 130699"/>
              <a:gd name="adj2" fmla="val -2118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松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2982960" cy="2193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152388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显微鉴定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蒸馏水装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可见无色不规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颗粒状团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分枝状团块及细长菌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％氢氧化钾溶液装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可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丝细长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稍弯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分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无色（内层菌丝）或带棕色（外层菌丝），横隔偶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413160" cy="4368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500720" y="5229360"/>
            <a:ext cx="4248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8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块粉末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颗粒状团块　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枝状团块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菌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189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、茯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ri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197000"/>
            <a:ext cx="8762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含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β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聚糖，含量高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％，无抗肿瘤活性，若切断支链成为茯苓次聚糖（常称茯苓多糖），具抗肿瘤活性。另含茯苓酸、麦角甾醇、腺嘌呤、胆碱、卵磷脂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β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茯苓聚糖分解酶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利水渗湿，健脾宁心。用于水肿尿少，痰饮眩悸，脾虚食少，便溏泄泻，心神不安，惊悸失眠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理化鉴定】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少许粉末，加碘化钾碘试液数滴，显深红色（检查多糖）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78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653000"/>
            <a:ext cx="8458200" cy="12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茯苓药材有茯苓个、茯苓皮、茯苓块、赤茯苓、白茯苓、茯神之分，说说其药用部位和主要区别？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11970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载于《神农本草经》，列为中品。《本草图经》曰 ：“ 生土底皮黑作块似猪粪故以名之”。 民间亦有“野猪粪”的别称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本品为多孔菌科真菌猪苓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olyporus umbellatu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ers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ri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猪苓多生长在海拔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600m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壳斗科、桦木科等为寄主的阔叶林、针阔混交林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陕西、云南、河南、甘肃等省亦产。现有人工栽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春、秋二季采挖，除去泥沙，晒干。春、秋二季采挖，除去泥沙，晒干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890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猪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yporu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835000" cy="2263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676520"/>
            <a:ext cx="413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规则或有分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灰黑或棕黑，有瘤状突起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质硬而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能浮于水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类白色或黄白色，略呈颗粒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味淡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68360" y="558972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9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猪苓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1700280"/>
            <a:ext cx="914400" cy="1042920"/>
          </a:xfrm>
          <a:prstGeom prst="wedgeEllipseCallout">
            <a:avLst>
              <a:gd name="adj1" fmla="val 114583"/>
              <a:gd name="adj2" fmla="val 814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切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24360" y="4365720"/>
            <a:ext cx="1417680" cy="609480"/>
          </a:xfrm>
          <a:prstGeom prst="cloudCallout">
            <a:avLst>
              <a:gd name="adj1" fmla="val 103305"/>
              <a:gd name="adj2" fmla="val -257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菌核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708280" cy="2206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843280" y="1890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猪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yporu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1557360"/>
            <a:ext cx="485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显微鉴定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蒸馏水装片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菌丝散在或与多糖粘结的菌丝团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大多无色，少数暗棕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或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氢氧化钾溶液装片：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团块部分溶化，菌丝细长、弯曲，有分枝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草酸钙结晶极多，呈双锥形或八面体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也有呈不规则多面体形，有时数个结晶集合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 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3332160" cy="4176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076720" y="5084640"/>
            <a:ext cx="3924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0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猪苓粉末图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菌丝团块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内层）菌丝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外层）菌丝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晶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1890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猪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yporu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43280" y="1890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、猪苓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olyporu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700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主含抗肿瘤活性的猪苓聚糖。另含麦角甾醇及粗蛋白等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利水渗湿。用于小便不利，水肿，泄泻，淋浊，滞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4365720"/>
            <a:ext cx="853416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猪苓与茯苓在来源、性状特征、显微特征和功效应用上有何异同点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它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125360"/>
            <a:ext cx="883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自《吴普本草》。《本草纲目》：“按《吴普本草》纶布一名昆布，则《尔雅》所谓纶似纶，东海有之者，即昆布也。”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褐藻类海带科植物海带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Laminaria japonic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Ares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翅藻科植物昆布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cklonia kurom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Oka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的干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状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343400"/>
            <a:ext cx="8458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说说有关关海带的见闻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昆布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Thallus laminariae Thallus Ecklon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香始载于《名医别录》，称为薰陆香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橄榄科植物卡氏乳香树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oswellia carteri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Birdwoo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同属其他数种植物皮部切伤后渗出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油胶树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3295800"/>
            <a:ext cx="873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树脂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0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树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7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挥发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树脂中主含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β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香酸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香树脂酮等；树胶中主含多聚糖及西黄芪胶粘素、苦味质等；挥发油中主含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蒎烯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芹烯、二戊烯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活血止痛，消肿生肌。用于气血凝滞，心腹疼痛，痛经，产后瘀血刺痛，痈疮肿毒。跌打损伤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43280" y="18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乳香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liban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5257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乳香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160020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乳头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不规则小块，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淡黄色，半透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常带有一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类白或淡黄色粉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蜡样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光泽或偶见呈玻璃样光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气微芳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味微苦，粘牙，微有香辣感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遇热变软，烧之微有香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冒黑烟，并有黑色残渣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少量水共研，成白色乳状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925720" cy="2982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43280" y="18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乳香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liban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18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、乳香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liban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501336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试说明乳香与没药的来源、树脂类型、功效及性状特征的异同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519200"/>
            <a:ext cx="4752720" cy="33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橄榄科植物没药树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miphora myrrha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gl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molmol Engl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及同属多种植物树干皮部渗出的油胶树脂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香而特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水共研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棕色乳状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1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主含挥发油、树脂与树胶。具散血祛瘀，消肿定痛功效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4292640"/>
            <a:ext cx="2808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没药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336840" cy="25146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1496880"/>
            <a:ext cx="87631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出自《雷公炮炙论》名骐驎竭，为行瘀止血、敛疮生肌之要药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棕榈科植物麒麟竭</a:t>
            </a:r>
            <a:r>
              <a:rPr b="0" i="1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Daemonorops draco 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Blum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果实渗出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树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地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产于印度尼西亚、印度及马来西亚等地。我国广东、海南、台湾等地也有种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5640" y="189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血竭  </a:t>
            </a:r>
            <a:r>
              <a:rPr b="0" lang="fr-FR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nguis Dracon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采收加工</a:t>
            </a:r>
            <a:r>
              <a:rPr b="0" lang="fr-FR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采集成熟果实，晒干，加贝壳同入笼中强力振摇，红色树脂块即脱落，筛去杂质，用布包起，入热水中使软化成团，取出放冷。称“原装血竭”。原装血竭经加入达玛树脂等辅料加工炼制，称“加工血竭” 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3581280"/>
            <a:ext cx="878544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牌号血竭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部印有商标牌号，将血竭按质量优劣分成麒麟牌、手牌、皇冠牌、五星牌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牌、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牌、鸡牌、金鱼牌、金星牌、太阳牌等规格者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95640" y="189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血竭  </a:t>
            </a:r>
            <a:r>
              <a:rPr b="0" lang="fr-FR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nguis Dracon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12536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】 ①略呈扁圆四方形，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暗红，有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附有摩擦而成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红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底部平圆并有商标金印 ②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硬脆，破碎面光亮，黑红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研粉为砖红色。味淡。③水试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粉末浮于水面，水不染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在热水中软化。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5668920"/>
            <a:ext cx="259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3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竭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076720" y="2860560"/>
            <a:ext cx="2806920" cy="2738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692360" y="2932200"/>
            <a:ext cx="3035160" cy="2631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95280" y="3724200"/>
            <a:ext cx="914400" cy="1401840"/>
          </a:xfrm>
          <a:prstGeom prst="cloudCallout">
            <a:avLst>
              <a:gd name="adj1" fmla="val 244791"/>
              <a:gd name="adj2" fmla="val 1160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95640" y="189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血竭  </a:t>
            </a:r>
            <a:r>
              <a:rPr b="0" lang="fr-FR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nguis Dracon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它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1052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理化鉴定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本品粉末，置白纸上，用火隔纸烘烤即熔化，而无油迹扩散，对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艳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色，以火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烧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呛鼻的烟气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粉末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1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置具塞试管中，加石油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0℃)10m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振摇数分钟，取滤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m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置另一试管中，加新配制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.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醋酸铜镕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m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振摇后，静置分层，石油醚层不得显绿色（检查松香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含红色树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竭红素、血竭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苯甲酸及其脂类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祛瘀定痛，止血生肌、敛疮解毒。用于跌打损伤，内伤瘀痛，血滞胸腹刺痛、痛经、产后瘀痛，疮疡溃后不敛，外伤出血等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89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血竭  </a:t>
            </a:r>
            <a:r>
              <a:rPr b="0" lang="fr-FR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nguis Dracon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95640" y="189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七、血竭  </a:t>
            </a:r>
            <a:r>
              <a:rPr b="0" lang="fr-FR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nguis Dracon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1125360"/>
            <a:ext cx="8763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产血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为百合科植物海南龙血树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racaena cambodian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Pierre ex Gagnep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脂木质部提取而得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树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2494080"/>
            <a:ext cx="5211720" cy="241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鉴定注意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不规则块状；精制品呈片状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面紫色，有光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局部附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色粉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断面平滑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玻璃样光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味微涩，嚼之有粘牙感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1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08720" y="5446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4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产血竭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715000" y="2536920"/>
            <a:ext cx="2994120" cy="2857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1125360"/>
            <a:ext cx="881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载于《嘉祐本草》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纲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治湿热，小便热淋、膏淋、血淋、石淋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为海金沙科植物海金沙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Lygodium japonicu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hun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w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干燥成熟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孢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580000" y="5518080"/>
            <a:ext cx="2998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5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海金沙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2854440"/>
            <a:ext cx="4961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粉末状，黄棕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质轻，捻之有光滑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置手中易由指缝滑落。味淡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撒于水中则浮于水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燃烧时产生爆鸣声和闪光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灰渣残留。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580000" y="2494080"/>
            <a:ext cx="3041640" cy="30034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340000" y="18900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、海金沙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pora Lygodi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18900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八、海金沙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pora Lygodi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化学成分】含海金沙素、棕榈酸、油酸、亚油酸及脂肪油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功效应用】清热渗湿，利水通淋。用于膏淋，砂淋，热淋，尿路结石，血淋，肾炎水肿，痄腮，肠炎，湿疹，带状疮疹。入煎剂宜包煎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3789360"/>
            <a:ext cx="871380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金沙藤  海金沙全草入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功效与海金沙相似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掺伪品  在海金沙商品药材中常有掺杂细砂与泥土，多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掺杂品色泽变暗黄，有极多灰尘；撒在水中则大部分很快下沉，水变混浊；置火中能燃烧的很少，残留很多灰渣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029200" y="4952880"/>
            <a:ext cx="367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昆布药材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海带</a:t>
            </a:r>
            <a:r>
              <a:rPr b="0" lang="zh-CN" sz="900" spc="-1" strike="noStrike">
                <a:solidFill>
                  <a:srgbClr val="003300"/>
                </a:solidFill>
                <a:latin typeface="Times New Roman"/>
              </a:rPr>
              <a:t>　</a:t>
            </a:r>
            <a:endParaRPr b="0" lang="en-US" sz="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125360"/>
            <a:ext cx="43434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海带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规则折叠，或缠扎成把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体黑褐或绿褐，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白色盐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浸泡膨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中部较厚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波状褶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手捻之不分层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柄部扁圆柱状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腥，味咸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(a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22920" y="2236680"/>
            <a:ext cx="3940200" cy="2640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昆布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Thallus laminariae Thallus Ecklon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280" y="105264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然冰片有龙脑香、艾片等，龙脑香片载于《唐本草》，艾纳香载于《开宝本草》。现行版《中国药典》将天然冰片收载为樟科植物樟的加工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樟科植物樟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innamomum campho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L.)Pres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新鲜枝、叶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提取加工制成的结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为天然冰片的一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6831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学成分】含右旋龙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开窍醒神，清热止痛。用于热病昏厥，中风痰厥，气郁暴厥，中恶昏迷，目赤，热毒疮疡，痈肿，口疮，咽喉肿痛，耳道流脓。入丸散用。外用适量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76360" y="18900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、天然冰片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orneol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5105520"/>
            <a:ext cx="3657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天然冰片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rcRect l="0" t="0" r="80" b="180"/>
          <a:stretch/>
        </p:blipFill>
        <p:spPr>
          <a:xfrm>
            <a:off x="4971960" y="1828800"/>
            <a:ext cx="3791160" cy="307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28600" y="1752480"/>
            <a:ext cx="46483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白色的结晶性粉末或片状结晶。气清香，味辛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有挥发性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燃之有浓烟，火焰呈黄色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76360" y="18900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、天然冰片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orneol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76360" y="18900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、天然冰片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orneol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1557360"/>
            <a:ext cx="572472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典品－冰片（合成龙脑）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樟脑、松节油等合成，亦称“机制冰片”。主含消旋龙脑、异龙脑、樟脑。功效同天然冰片。如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1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为菊科植物艾纳香（大艾）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lumea balsamifer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DC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叶中提取的结晶。主含左旋龙脑。功效应用同天然冰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为龙脑香科植物龙脑香树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ryobalanops aromatic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Gaert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的树干提取的结晶。亦称“龙脑香”，主含右旋龙脑。功效应用同天然冰片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75280" y="4724280"/>
            <a:ext cx="30164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11-17</a:t>
            </a:r>
            <a:r>
              <a:rPr b="0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合成龙脑药材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019920" y="2130480"/>
            <a:ext cx="2941560" cy="2612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它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1484280"/>
            <a:ext cx="8686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载于《开宝本草》。为常用的收涩药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漆树科植物盐肤木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hus chinens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Mill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青麸杨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hus potanini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Maxim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红麸杨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hus punjabens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Stew.var.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inic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iel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ehd.et Wils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上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虫瘿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主要由五倍子蚜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elaphis chinens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el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ak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而形成。按外形分“肚倍”和“角倍”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79640" y="189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、五倍子  </a:t>
            </a:r>
            <a:r>
              <a:rPr b="0" lang="it-IT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lla Chinensi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674800" cy="1920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0080" y="392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4000" y="1125360"/>
            <a:ext cx="4876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肚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呈长圆形或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纺锤形囊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表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灰褐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微被滑软的柔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内壁平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内有死蚜虫及排泄物。易碎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角质样，有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味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不规则的角状分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面柔毛较明显，壁较薄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8958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11-18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五倍子药材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729200" y="279576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a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肚倍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2743200" cy="22748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728840" y="50292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b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角倍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79640" y="189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、五倍子  </a:t>
            </a:r>
            <a:r>
              <a:rPr b="0" lang="it-IT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lla Chinensi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9640" y="189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、五倍子  </a:t>
            </a:r>
            <a:r>
              <a:rPr b="0" lang="it-IT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Galla Chinensi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3962520"/>
            <a:ext cx="83534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观察药材标本，说出肚倍和角倍性状的特征异同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化学成分】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五倍子鞣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没食子酸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功效应用】敛肺降火，涩肠止泻，敛汗止血，收湿敛疮。用于肺虚久咳，肺热痰嗽，久泻久痢，盗汗消渴，便血痔血；外伤出血，痈肿疮毒，皮肤湿烂。外用适量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15238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载于《开宝本草》：“俗呼为象胆，盖以其味苦如胆故也”。芦荟为马来语之音译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来源】百合科植物库拉索芦荟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loe barbadens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Mill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好望角芦荟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loe fero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Mill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其他同属近缘植物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的汁液浓缩干燥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库拉索芦荟习称“老芦荟”，好望角芦荟习称“新芦荟”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4653000"/>
            <a:ext cx="82090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同学们见过芦荟植物吗？除药用外，现时人们还常用于哪些方面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1640" y="189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一、芦荟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o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1628640"/>
            <a:ext cx="38862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库拉索芦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呈不规则块状，大小不一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表面呈暗红褐或深褐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质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不易破碎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粗糙或显麻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富吸湿性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特殊臭气，味极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 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9(a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5257800"/>
            <a:ext cx="3925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9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库拉索芦荟</a:t>
            </a:r>
            <a:r>
              <a:rPr b="0" lang="zh-CN" sz="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419720" y="1557360"/>
            <a:ext cx="4495680" cy="3527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71640" y="189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一、芦荟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o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49568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9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好望角芦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1523880"/>
            <a:ext cx="36352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好望角芦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呈暗褐色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略显绿色，有光泽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质松，易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呈玻璃样光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有层纹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9(b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343400" y="1052640"/>
            <a:ext cx="4284720" cy="3365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6320" y="5105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化学成分】主含芦荟苷及树脂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功效应用】清肝热，通便。用于热结便秘，小儿疳积，惊风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71640" y="189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一、芦荟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o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1484280"/>
            <a:ext cx="48006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产芦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为百合科植物芦荟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loe ver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L. va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inensi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w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rg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同属植物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叶的汁液浓缩干燥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鉴定注意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不规则团块状或破碎的颗粒状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棕褐色或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绿色，薄片半透明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脆，易破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断面光滑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玻璃样光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异臭气，味极苦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51814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20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产芦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334120" y="1878120"/>
            <a:ext cx="3527280" cy="32274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71640" y="189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一、芦荟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o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1125360"/>
            <a:ext cx="43434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昆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卷曲成不规则团状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全体呈黑色，较薄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泡软膨胀呈扁平的叶状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侧呈羽状深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边缘有小齿或全缘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捻之可剥离为二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质柔滑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(b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5181480"/>
            <a:ext cx="38862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昆布药材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昆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79880" cy="3108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928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昆布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Thallus laminariae Thallus Ecklon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3664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836640"/>
            <a:ext cx="29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907920"/>
            <a:ext cx="34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71640" y="189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十一、芦荟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lo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5280" y="1197000"/>
            <a:ext cx="8280360" cy="454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芦荟是集食用、药用、美容、观赏于一身的保健植物新星。芦荟蕴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元素，与人体细胞所需物质几乎完全吻合。在西方国家，化妆品中因标有含芦荟成分而身价倍增，于是把它誉为“天然美容师”。它有着明显的食疗和医疗效果，对一些医院都束手无策的慢性病、疑难病常常有不可思议的功效，被人们荣称为“神奇植物”、“家庭药箱”。经过较长时间日晒后，取新鲜芦荟，刮出中间的芦荟物质敷在肌肤上，可起到镇定和美白的作用。取汁，加少许水即可涂于面部美容，洗头后抹到头发上可以止痒、防止白发、脱发，并保持头发乌黑发亮，秃顶者还可生出新发。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143000" y="2590920"/>
            <a:ext cx="67816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观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4" name=""/>
          <p:cNvSpPr/>
          <p:nvPr/>
        </p:nvSpPr>
        <p:spPr>
          <a:xfrm>
            <a:off x="6435000" y="5764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卫生部教材办公室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81440" y="61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f7e9"/>
                </a:solidFill>
                <a:latin typeface="Arial"/>
                <a:ea typeface="隶书"/>
              </a:rPr>
              <a:t>人民卫生电子音像出版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然药物学（配套光盘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189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昆布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Thallus laminariae Thallus Ecklonia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25360"/>
            <a:ext cx="8686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化学成分】海带含海带聚糖，藻胶酸，昆布素，海带氨酸，甘露醇，维生素以及碘，钾等。昆布含藻胶酸，昆布糖，氨基酸，甘露醇，及碘，钾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功效应用】软坚散结，消痰，利水。用于瘿瘤，瘰疬，睾丸肿痛，痰饮水肿等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495600"/>
            <a:ext cx="856908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链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裙带莱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用品）  为翅藻科植物裙带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ndaria pinnatifida(Harv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Sur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叶状体也作昆布入药。主产浙江，药材形性与昆布相似，但全体呈棕绿色，质薄而脆，多已破碎，用水浸软后膨胀呈扁平叶状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央有一筋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溶出大量粘液如琼脂样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易剥离为二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气腥，味咸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1197000"/>
            <a:ext cx="86104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载于《本草从新》，有“雪域奇珍，药中黄金”的美誉，它与人参、鹿茸并称为中国三大传统名贵滋补佳品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品为麦角菌科真菌冬虫夏草菌</a:t>
            </a:r>
            <a:r>
              <a:rPr b="0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ordyceps sinensi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erk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ac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在蝙蝠蛾科昆虫幼虫上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子座及幼虫尸体的复合体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植物形态特征】子座出自寄主幼虫的头部，单生，长棒状，头部稍膨大，褐色，其内密生多数子囊壳。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四川、青海、西藏等省。生于青藏高原海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000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寒山区的草甸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2682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产地】主产于四川、青海、西藏等省。生于青藏高原海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000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寒山区的草甸区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采收加工】夏初子座出土、孢子未萌发时采挖，晒至六、七成干，除去杂质，再晒干或低温干燥。</a:t>
            </a:r>
            <a:r>
              <a:rPr b="0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410080"/>
            <a:ext cx="2664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冬虫夏草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503440" cy="356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4343400"/>
            <a:ext cx="53341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互动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冬虫夏草的真正含义是什么？它有哪些性状特点？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1544760"/>
            <a:ext cx="5040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性状鉴定注意点】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虫体形如蚕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土黄至黄棕色；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足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，中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较明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头部红棕（或有膜状物覆盖）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质脆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断面淡黄白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有的具深色小点或缝隙 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子座有细小纵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上部稍膨大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折断面类白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微腥，味微苦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 如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。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800600"/>
            <a:ext cx="3052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-3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冬虫夏草药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257800" y="1959120"/>
            <a:ext cx="3505320" cy="2577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冬虫夏草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rdyceps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5800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第十一章 其他类药材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05:17:05Z</dcterms:created>
  <dc:creator>dmf</dc:creator>
  <dc:description/>
  <dc:language>en-US</dc:language>
  <cp:lastModifiedBy>epmph</cp:lastModifiedBy>
  <dcterms:modified xsi:type="dcterms:W3CDTF">2008-12-18T06:29:27Z</dcterms:modified>
  <cp:revision>201</cp:revision>
  <dc:subject/>
  <dc:title>天然药物学课件第十一章 其它类药材</dc:title>
</cp:coreProperties>
</file>