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7B9B-EDF6-4F45-B991-5EA50B9A8E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699-4249-4946-B4E3-6DF40780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3C9-6D7D-4AB3-B48D-A17EF59B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9BB-A9CB-459D-91B1-1BBCE450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B32-B673-400A-A4F0-1DCFAC7E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8D9-B079-493D-8712-B9B0D8D7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5DC-5AC7-4303-B97F-B1A3E70E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E4B-8FF3-4AF9-A09B-408C288B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829-50E9-4CD5-84E9-29BBD46D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7FD-E74F-4DB1-BD15-AD93F720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544-5072-4D1C-8A3F-71CFF871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575-1F4C-4896-8ECF-948FE50B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FE0-0AC0-4418-A1EC-E1647E6F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8637-5C25-407F-965B-A9163449E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osterior superifical dissection of lower limb, deep dissection of gluteal region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90360" y="3716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下肢后面浅层、臀区深层解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773360"/>
            <a:ext cx="58672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-307" b="13130"/>
          <a:stretch/>
        </p:blipFill>
        <p:spPr>
          <a:xfrm>
            <a:off x="0" y="1501920"/>
            <a:ext cx="2771640" cy="5356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8360" y="260280"/>
            <a:ext cx="8675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. The structures through Suprapiriform  fo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47480" y="220500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uperior gluteal a,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55760" y="393372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uperior glut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92240" y="10526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穿经梨状肌上孔的血管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53400" y="220356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臀上动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6552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臀上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402920" y="2421000"/>
            <a:ext cx="1513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403280" y="2637000"/>
            <a:ext cx="1656000" cy="151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492360" y="1341360"/>
            <a:ext cx="1901880" cy="47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547640" y="0"/>
            <a:ext cx="6429600" cy="6858000"/>
            <a:chOff x="1547640" y="0"/>
            <a:chExt cx="6429600" cy="6858000"/>
          </a:xfrm>
        </p:grpSpPr>
        <p:grpSp>
          <p:nvGrpSpPr>
            <p:cNvPr id="197" name=""/>
            <p:cNvGrpSpPr/>
            <p:nvPr/>
          </p:nvGrpSpPr>
          <p:grpSpPr>
            <a:xfrm>
              <a:off x="1547640" y="0"/>
              <a:ext cx="6429600" cy="6858000"/>
              <a:chOff x="1547640" y="0"/>
              <a:chExt cx="6429600" cy="6858000"/>
            </a:xfrm>
          </p:grpSpPr>
          <p:pic>
            <p:nvPicPr>
              <p:cNvPr id="1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7640" y="0"/>
                <a:ext cx="64296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80000" y="1120680"/>
                <a:ext cx="162000" cy="1244520"/>
              </a:xfrm>
              <a:custGeom>
                <a:avLst/>
                <a:gdLst/>
                <a:ahLst/>
                <a:rect l="l" t="t" r="r" b="b"/>
                <a:pathLst>
                  <a:path w="102" h="784">
                    <a:moveTo>
                      <a:pt x="23" y="784"/>
                    </a:moveTo>
                    <a:cubicBezTo>
                      <a:pt x="36" y="775"/>
                      <a:pt x="80" y="760"/>
                      <a:pt x="91" y="728"/>
                    </a:cubicBezTo>
                    <a:cubicBezTo>
                      <a:pt x="102" y="696"/>
                      <a:pt x="98" y="630"/>
                      <a:pt x="91" y="592"/>
                    </a:cubicBezTo>
                    <a:cubicBezTo>
                      <a:pt x="84" y="554"/>
                      <a:pt x="53" y="539"/>
                      <a:pt x="46" y="501"/>
                    </a:cubicBezTo>
                    <a:cubicBezTo>
                      <a:pt x="39" y="463"/>
                      <a:pt x="44" y="396"/>
                      <a:pt x="51" y="364"/>
                    </a:cubicBezTo>
                    <a:cubicBezTo>
                      <a:pt x="58" y="332"/>
                      <a:pt x="81" y="338"/>
                      <a:pt x="87" y="309"/>
                    </a:cubicBezTo>
                    <a:cubicBezTo>
                      <a:pt x="93" y="280"/>
                      <a:pt x="91" y="225"/>
                      <a:pt x="87" y="190"/>
                    </a:cubicBezTo>
                    <a:cubicBezTo>
                      <a:pt x="83" y="155"/>
                      <a:pt x="65" y="128"/>
                      <a:pt x="60" y="99"/>
                    </a:cubicBezTo>
                    <a:cubicBezTo>
                      <a:pt x="55" y="70"/>
                      <a:pt x="70" y="32"/>
                      <a:pt x="60" y="16"/>
                    </a:cubicBezTo>
                    <a:cubicBezTo>
                      <a:pt x="50" y="0"/>
                      <a:pt x="12" y="6"/>
                      <a:pt x="0" y="3"/>
                    </a:cubicBezTo>
                  </a:path>
                </a:pathLst>
              </a:custGeom>
              <a:noFill/>
              <a:ln w="572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35640" y="1916280"/>
                <a:ext cx="216000" cy="82440"/>
              </a:xfrm>
              <a:custGeom>
                <a:avLst/>
                <a:gdLst/>
                <a:ahLst/>
                <a:rect l="l" t="t" r="r" b="b"/>
                <a:pathLst>
                  <a:path w="136" h="52">
                    <a:moveTo>
                      <a:pt x="136" y="0"/>
                    </a:moveTo>
                    <a:cubicBezTo>
                      <a:pt x="125" y="19"/>
                      <a:pt x="114" y="38"/>
                      <a:pt x="91" y="45"/>
                    </a:cubicBezTo>
                    <a:cubicBezTo>
                      <a:pt x="68" y="52"/>
                      <a:pt x="15" y="45"/>
                      <a:pt x="0" y="45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24360" y="1328760"/>
                <a:ext cx="1224000" cy="731880"/>
              </a:xfrm>
              <a:custGeom>
                <a:avLst/>
                <a:gdLst/>
                <a:ahLst/>
                <a:rect l="l" t="t" r="r" b="b"/>
                <a:pathLst>
                  <a:path w="771" h="461">
                    <a:moveTo>
                      <a:pt x="0" y="461"/>
                    </a:moveTo>
                    <a:cubicBezTo>
                      <a:pt x="11" y="408"/>
                      <a:pt x="22" y="355"/>
                      <a:pt x="45" y="325"/>
                    </a:cubicBezTo>
                    <a:cubicBezTo>
                      <a:pt x="68" y="295"/>
                      <a:pt x="113" y="295"/>
                      <a:pt x="136" y="280"/>
                    </a:cubicBezTo>
                    <a:cubicBezTo>
                      <a:pt x="159" y="265"/>
                      <a:pt x="158" y="247"/>
                      <a:pt x="181" y="234"/>
                    </a:cubicBezTo>
                    <a:cubicBezTo>
                      <a:pt x="204" y="221"/>
                      <a:pt x="241" y="225"/>
                      <a:pt x="271" y="205"/>
                    </a:cubicBezTo>
                    <a:cubicBezTo>
                      <a:pt x="301" y="185"/>
                      <a:pt x="323" y="134"/>
                      <a:pt x="362" y="114"/>
                    </a:cubicBezTo>
                    <a:cubicBezTo>
                      <a:pt x="401" y="94"/>
                      <a:pt x="461" y="103"/>
                      <a:pt x="508" y="86"/>
                    </a:cubicBezTo>
                    <a:cubicBezTo>
                      <a:pt x="555" y="69"/>
                      <a:pt x="601" y="26"/>
                      <a:pt x="645" y="13"/>
                    </a:cubicBezTo>
                    <a:cubicBezTo>
                      <a:pt x="689" y="0"/>
                      <a:pt x="745" y="9"/>
                      <a:pt x="771" y="8"/>
                    </a:cubicBezTo>
                  </a:path>
                </a:pathLst>
              </a:custGeom>
              <a:noFill/>
              <a:ln w="572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940360" y="1773360"/>
                <a:ext cx="577800" cy="374400"/>
              </a:xfrm>
              <a:custGeom>
                <a:avLst/>
                <a:gdLst/>
                <a:ahLst/>
                <a:rect l="l" t="t" r="r" b="b"/>
                <a:pathLst>
                  <a:path w="364" h="236">
                    <a:moveTo>
                      <a:pt x="0" y="0"/>
                    </a:moveTo>
                    <a:cubicBezTo>
                      <a:pt x="15" y="11"/>
                      <a:pt x="24" y="22"/>
                      <a:pt x="46" y="45"/>
                    </a:cubicBezTo>
                    <a:cubicBezTo>
                      <a:pt x="68" y="68"/>
                      <a:pt x="113" y="115"/>
                      <a:pt x="135" y="136"/>
                    </a:cubicBezTo>
                    <a:cubicBezTo>
                      <a:pt x="157" y="157"/>
                      <a:pt x="149" y="167"/>
                      <a:pt x="181" y="172"/>
                    </a:cubicBezTo>
                    <a:cubicBezTo>
                      <a:pt x="213" y="177"/>
                      <a:pt x="297" y="152"/>
                      <a:pt x="327" y="163"/>
                    </a:cubicBezTo>
                    <a:cubicBezTo>
                      <a:pt x="357" y="174"/>
                      <a:pt x="356" y="221"/>
                      <a:pt x="364" y="236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835280" y="134136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Superior gluteal 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1280" y="155736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7280" y="1989000"/>
              <a:ext cx="180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24000" y="1773360"/>
              <a:ext cx="19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Superior gluteal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50920" y="189000"/>
            <a:ext cx="3276360" cy="862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The vessel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Suprapiriform  for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50040" y="620640"/>
            <a:ext cx="2793960" cy="6237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26028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. The structures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through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Infrapiriform for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65400" y="1628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从外侧向内侧依次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587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atic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000" y="522936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osterior femoral cutaneous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4365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ferior gluteal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2200" y="357336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ferior gluteal a/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2560" y="285264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ternal pudendal a./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1337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udendal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88960" y="9079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穿经梨状肌下孔的血管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7648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阴部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60840" y="595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坐骨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19600" y="5229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股后皮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24480" y="43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臀下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1120" y="364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臀下动脉及静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03520" y="2852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阴部内动脉及静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211640" y="5445000"/>
            <a:ext cx="361620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08720" y="3068640"/>
            <a:ext cx="1958760" cy="216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292720" y="2421000"/>
            <a:ext cx="215892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859280" y="2707920"/>
            <a:ext cx="2392560" cy="180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43280" y="2276640"/>
            <a:ext cx="267984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067280" y="1988640"/>
            <a:ext cx="309708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987640" y="3645000"/>
            <a:ext cx="2665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3280" y="3716280"/>
            <a:ext cx="2520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4296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235480" y="3068640"/>
            <a:ext cx="130320" cy="631800"/>
          </a:xfrm>
          <a:custGeom>
            <a:avLst/>
            <a:gdLst/>
            <a:ahLst/>
            <a:rect l="l" t="t" r="r" b="b"/>
            <a:pathLst>
              <a:path w="82" h="398">
                <a:moveTo>
                  <a:pt x="82" y="0"/>
                </a:moveTo>
                <a:lnTo>
                  <a:pt x="79" y="101"/>
                </a:lnTo>
                <a:lnTo>
                  <a:pt x="66" y="174"/>
                </a:lnTo>
                <a:lnTo>
                  <a:pt x="45" y="28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3573360"/>
            <a:ext cx="608040" cy="835200"/>
          </a:xfrm>
          <a:custGeom>
            <a:avLst/>
            <a:gdLst/>
            <a:ahLst/>
            <a:rect l="l" t="t" r="r" b="b"/>
            <a:pathLst>
              <a:path w="383" h="526">
                <a:moveTo>
                  <a:pt x="383" y="0"/>
                </a:moveTo>
                <a:cubicBezTo>
                  <a:pt x="360" y="72"/>
                  <a:pt x="345" y="137"/>
                  <a:pt x="338" y="182"/>
                </a:cubicBezTo>
                <a:cubicBezTo>
                  <a:pt x="331" y="227"/>
                  <a:pt x="342" y="230"/>
                  <a:pt x="338" y="272"/>
                </a:cubicBezTo>
                <a:cubicBezTo>
                  <a:pt x="334" y="314"/>
                  <a:pt x="318" y="410"/>
                  <a:pt x="311" y="437"/>
                </a:cubicBezTo>
                <a:cubicBezTo>
                  <a:pt x="304" y="464"/>
                  <a:pt x="294" y="426"/>
                  <a:pt x="293" y="437"/>
                </a:cubicBezTo>
                <a:cubicBezTo>
                  <a:pt x="292" y="448"/>
                  <a:pt x="316" y="487"/>
                  <a:pt x="302" y="501"/>
                </a:cubicBezTo>
                <a:cubicBezTo>
                  <a:pt x="288" y="515"/>
                  <a:pt x="260" y="526"/>
                  <a:pt x="210" y="520"/>
                </a:cubicBezTo>
                <a:cubicBezTo>
                  <a:pt x="160" y="514"/>
                  <a:pt x="44" y="476"/>
                  <a:pt x="0" y="465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3068640"/>
            <a:ext cx="200160" cy="631800"/>
          </a:xfrm>
          <a:custGeom>
            <a:avLst/>
            <a:gdLst/>
            <a:ahLst/>
            <a:rect l="l" t="t" r="r" b="b"/>
            <a:pathLst>
              <a:path w="82" h="398">
                <a:moveTo>
                  <a:pt x="82" y="0"/>
                </a:moveTo>
                <a:lnTo>
                  <a:pt x="79" y="101"/>
                </a:lnTo>
                <a:lnTo>
                  <a:pt x="66" y="174"/>
                </a:lnTo>
                <a:lnTo>
                  <a:pt x="45" y="28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88000" y="3716280"/>
            <a:ext cx="287280" cy="504720"/>
          </a:xfrm>
          <a:custGeom>
            <a:avLst/>
            <a:gdLst/>
            <a:ahLst/>
            <a:rect l="l" t="t" r="r" b="b"/>
            <a:pathLst>
              <a:path w="181" h="318">
                <a:moveTo>
                  <a:pt x="181" y="0"/>
                </a:moveTo>
                <a:cubicBezTo>
                  <a:pt x="124" y="68"/>
                  <a:pt x="68" y="137"/>
                  <a:pt x="45" y="182"/>
                </a:cubicBezTo>
                <a:cubicBezTo>
                  <a:pt x="22" y="227"/>
                  <a:pt x="52" y="250"/>
                  <a:pt x="45" y="273"/>
                </a:cubicBezTo>
                <a:cubicBezTo>
                  <a:pt x="38" y="296"/>
                  <a:pt x="7" y="311"/>
                  <a:pt x="0" y="318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37080" y="3279600"/>
            <a:ext cx="235080" cy="1393920"/>
          </a:xfrm>
          <a:custGeom>
            <a:avLst/>
            <a:gdLst/>
            <a:ahLst/>
            <a:rect l="l" t="t" r="r" b="b"/>
            <a:pathLst>
              <a:path w="148" h="878">
                <a:moveTo>
                  <a:pt x="83" y="0"/>
                </a:moveTo>
                <a:cubicBezTo>
                  <a:pt x="89" y="27"/>
                  <a:pt x="121" y="104"/>
                  <a:pt x="119" y="165"/>
                </a:cubicBezTo>
                <a:cubicBezTo>
                  <a:pt x="117" y="226"/>
                  <a:pt x="74" y="296"/>
                  <a:pt x="74" y="366"/>
                </a:cubicBezTo>
                <a:cubicBezTo>
                  <a:pt x="74" y="436"/>
                  <a:pt x="110" y="515"/>
                  <a:pt x="119" y="585"/>
                </a:cubicBezTo>
                <a:cubicBezTo>
                  <a:pt x="128" y="655"/>
                  <a:pt x="148" y="738"/>
                  <a:pt x="128" y="787"/>
                </a:cubicBezTo>
                <a:cubicBezTo>
                  <a:pt x="108" y="836"/>
                  <a:pt x="27" y="859"/>
                  <a:pt x="0" y="878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21240" y="4076640"/>
            <a:ext cx="144360" cy="360360"/>
          </a:xfrm>
          <a:custGeom>
            <a:avLst/>
            <a:gdLst/>
            <a:ahLst/>
            <a:rect l="l" t="t" r="r" b="b"/>
            <a:pathLst>
              <a:path w="91" h="227">
                <a:moveTo>
                  <a:pt x="91" y="0"/>
                </a:moveTo>
                <a:cubicBezTo>
                  <a:pt x="72" y="30"/>
                  <a:pt x="53" y="61"/>
                  <a:pt x="45" y="91"/>
                </a:cubicBezTo>
                <a:cubicBezTo>
                  <a:pt x="37" y="121"/>
                  <a:pt x="52" y="159"/>
                  <a:pt x="45" y="182"/>
                </a:cubicBezTo>
                <a:cubicBezTo>
                  <a:pt x="38" y="205"/>
                  <a:pt x="7" y="212"/>
                  <a:pt x="0" y="227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414972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2416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Inferior gluteal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74640" y="429264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erior gluteal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340160" y="4436640"/>
            <a:ext cx="129708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52520" y="3645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Inferior gluteal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3716280"/>
            <a:ext cx="23749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74480" y="364500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erior gluteal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333360"/>
            <a:ext cx="3384360" cy="8254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he vessels through Infrapiriform for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63640" y="2924280"/>
            <a:ext cx="4376880" cy="1981080"/>
            <a:chOff x="1763640" y="2924280"/>
            <a:chExt cx="4376880" cy="1981080"/>
          </a:xfrm>
        </p:grpSpPr>
        <p:sp>
          <p:nvSpPr>
            <p:cNvPr id="248" name=""/>
            <p:cNvSpPr/>
            <p:nvPr/>
          </p:nvSpPr>
          <p:spPr>
            <a:xfrm>
              <a:off x="4557600" y="3645000"/>
              <a:ext cx="693720" cy="941400"/>
            </a:xfrm>
            <a:custGeom>
              <a:avLst/>
              <a:gdLst/>
              <a:ahLst/>
              <a:rect l="l" t="t" r="r" b="b"/>
              <a:pathLst>
                <a:path w="437" h="593">
                  <a:moveTo>
                    <a:pt x="437" y="0"/>
                  </a:moveTo>
                  <a:cubicBezTo>
                    <a:pt x="414" y="72"/>
                    <a:pt x="399" y="130"/>
                    <a:pt x="392" y="182"/>
                  </a:cubicBezTo>
                  <a:cubicBezTo>
                    <a:pt x="385" y="234"/>
                    <a:pt x="396" y="261"/>
                    <a:pt x="393" y="310"/>
                  </a:cubicBezTo>
                  <a:cubicBezTo>
                    <a:pt x="390" y="359"/>
                    <a:pt x="399" y="428"/>
                    <a:pt x="375" y="474"/>
                  </a:cubicBezTo>
                  <a:cubicBezTo>
                    <a:pt x="351" y="520"/>
                    <a:pt x="309" y="575"/>
                    <a:pt x="247" y="584"/>
                  </a:cubicBezTo>
                  <a:cubicBezTo>
                    <a:pt x="185" y="593"/>
                    <a:pt x="51" y="540"/>
                    <a:pt x="0" y="529"/>
                  </a:cubicBezTo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05240" y="3141720"/>
              <a:ext cx="287640" cy="1763640"/>
            </a:xfrm>
            <a:custGeom>
              <a:avLst/>
              <a:gdLst/>
              <a:ahLst/>
              <a:rect l="l" t="t" r="r" b="b"/>
              <a:pathLst>
                <a:path w="181" h="1111">
                  <a:moveTo>
                    <a:pt x="181" y="0"/>
                  </a:moveTo>
                  <a:cubicBezTo>
                    <a:pt x="162" y="27"/>
                    <a:pt x="146" y="59"/>
                    <a:pt x="136" y="95"/>
                  </a:cubicBezTo>
                  <a:cubicBezTo>
                    <a:pt x="126" y="130"/>
                    <a:pt x="127" y="184"/>
                    <a:pt x="119" y="216"/>
                  </a:cubicBezTo>
                  <a:cubicBezTo>
                    <a:pt x="111" y="247"/>
                    <a:pt x="99" y="246"/>
                    <a:pt x="90" y="283"/>
                  </a:cubicBezTo>
                  <a:cubicBezTo>
                    <a:pt x="81" y="321"/>
                    <a:pt x="74" y="402"/>
                    <a:pt x="64" y="444"/>
                  </a:cubicBezTo>
                  <a:cubicBezTo>
                    <a:pt x="54" y="486"/>
                    <a:pt x="34" y="505"/>
                    <a:pt x="28" y="535"/>
                  </a:cubicBezTo>
                  <a:cubicBezTo>
                    <a:pt x="22" y="565"/>
                    <a:pt x="28" y="578"/>
                    <a:pt x="28" y="625"/>
                  </a:cubicBezTo>
                  <a:cubicBezTo>
                    <a:pt x="28" y="672"/>
                    <a:pt x="33" y="735"/>
                    <a:pt x="28" y="816"/>
                  </a:cubicBezTo>
                  <a:cubicBezTo>
                    <a:pt x="23" y="897"/>
                    <a:pt x="6" y="1050"/>
                    <a:pt x="0" y="1111"/>
                  </a:cubicBez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21240" y="3500280"/>
              <a:ext cx="719280" cy="1152720"/>
            </a:xfrm>
            <a:custGeom>
              <a:avLst/>
              <a:gdLst/>
              <a:ahLst/>
              <a:rect l="l" t="t" r="r" b="b"/>
              <a:pathLst>
                <a:path w="453" h="726">
                  <a:moveTo>
                    <a:pt x="0" y="0"/>
                  </a:moveTo>
                  <a:cubicBezTo>
                    <a:pt x="11" y="49"/>
                    <a:pt x="22" y="98"/>
                    <a:pt x="45" y="136"/>
                  </a:cubicBezTo>
                  <a:cubicBezTo>
                    <a:pt x="68" y="174"/>
                    <a:pt x="98" y="197"/>
                    <a:pt x="136" y="227"/>
                  </a:cubicBezTo>
                  <a:cubicBezTo>
                    <a:pt x="174" y="257"/>
                    <a:pt x="227" y="273"/>
                    <a:pt x="272" y="318"/>
                  </a:cubicBezTo>
                  <a:cubicBezTo>
                    <a:pt x="317" y="363"/>
                    <a:pt x="378" y="431"/>
                    <a:pt x="408" y="499"/>
                  </a:cubicBezTo>
                  <a:cubicBezTo>
                    <a:pt x="438" y="567"/>
                    <a:pt x="446" y="688"/>
                    <a:pt x="453" y="726"/>
                  </a:cubicBez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13320" y="3076560"/>
              <a:ext cx="673200" cy="1370160"/>
            </a:xfrm>
            <a:custGeom>
              <a:avLst/>
              <a:gdLst/>
              <a:ahLst/>
              <a:rect l="l" t="t" r="r" b="b"/>
              <a:pathLst>
                <a:path w="424" h="863">
                  <a:moveTo>
                    <a:pt x="421" y="0"/>
                  </a:moveTo>
                  <a:cubicBezTo>
                    <a:pt x="423" y="26"/>
                    <a:pt x="424" y="103"/>
                    <a:pt x="412" y="147"/>
                  </a:cubicBezTo>
                  <a:cubicBezTo>
                    <a:pt x="400" y="191"/>
                    <a:pt x="363" y="238"/>
                    <a:pt x="348" y="265"/>
                  </a:cubicBezTo>
                  <a:cubicBezTo>
                    <a:pt x="333" y="292"/>
                    <a:pt x="328" y="259"/>
                    <a:pt x="320" y="311"/>
                  </a:cubicBezTo>
                  <a:cubicBezTo>
                    <a:pt x="312" y="363"/>
                    <a:pt x="323" y="491"/>
                    <a:pt x="302" y="576"/>
                  </a:cubicBezTo>
                  <a:cubicBezTo>
                    <a:pt x="281" y="661"/>
                    <a:pt x="242" y="783"/>
                    <a:pt x="192" y="823"/>
                  </a:cubicBezTo>
                  <a:cubicBezTo>
                    <a:pt x="142" y="863"/>
                    <a:pt x="40" y="816"/>
                    <a:pt x="0" y="814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16360" y="3645000"/>
              <a:ext cx="289080" cy="360360"/>
            </a:xfrm>
            <a:custGeom>
              <a:avLst/>
              <a:gdLst/>
              <a:ahLst/>
              <a:rect l="l" t="t" r="r" b="b"/>
              <a:pathLst>
                <a:path w="91" h="227">
                  <a:moveTo>
                    <a:pt x="91" y="0"/>
                  </a:moveTo>
                  <a:cubicBezTo>
                    <a:pt x="72" y="30"/>
                    <a:pt x="53" y="61"/>
                    <a:pt x="45" y="91"/>
                  </a:cubicBezTo>
                  <a:cubicBezTo>
                    <a:pt x="37" y="121"/>
                    <a:pt x="52" y="159"/>
                    <a:pt x="45" y="182"/>
                  </a:cubicBezTo>
                  <a:cubicBezTo>
                    <a:pt x="38" y="205"/>
                    <a:pt x="7" y="212"/>
                    <a:pt x="0" y="227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763640" y="2924280"/>
              <a:ext cx="3600360" cy="360360"/>
              <a:chOff x="1763640" y="2924280"/>
              <a:chExt cx="3600360" cy="360360"/>
            </a:xfrm>
          </p:grpSpPr>
          <p:sp>
            <p:nvSpPr>
              <p:cNvPr id="254" name=""/>
              <p:cNvSpPr/>
              <p:nvPr/>
            </p:nvSpPr>
            <p:spPr>
              <a:xfrm>
                <a:off x="1763640" y="2924280"/>
                <a:ext cx="259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Internal pudendal a and 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40000" y="3141720"/>
                <a:ext cx="11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140000" y="3141720"/>
                <a:ext cx="122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3924360" y="350028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24160" y="3789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4360" y="2492280"/>
            <a:ext cx="4386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1099" t="16417" r="0" b="0"/>
          <a:stretch/>
        </p:blipFill>
        <p:spPr>
          <a:xfrm>
            <a:off x="3635280" y="907920"/>
            <a:ext cx="2195640" cy="5732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89960" y="333360"/>
            <a:ext cx="54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 Posterior group muscles of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29973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emimembra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89800" y="3284640"/>
            <a:ext cx="25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15559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787640" y="3789360"/>
            <a:ext cx="1584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3500280"/>
            <a:ext cx="1440000" cy="793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2205000"/>
            <a:ext cx="165600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6360" y="33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股后群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3573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半膜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198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半腱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48360" y="3716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股二头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501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47640" y="5013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伸髋屈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587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神经支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79640" y="5877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坐骨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500"/>
                            </p:stCondLst>
                            <p:childTnLst>
                              <p:par>
                                <p:cTn id="7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07188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522960" y="333360"/>
            <a:ext cx="2180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 Sciatic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4076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Sciatic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0" y="4941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ibial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48000" y="5877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ommom peroneal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07640" y="4221000"/>
            <a:ext cx="129708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908000" y="6093000"/>
            <a:ext cx="1224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763280" y="5157720"/>
            <a:ext cx="1584360" cy="43200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1604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坐骨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28240" y="4941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胫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1360" y="40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坐骨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35720" y="5851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腓总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79200" y="119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来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96560" y="1268280"/>
            <a:ext cx="1725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粗大的神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自骶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06480" y="2055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行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40360" y="2060640"/>
            <a:ext cx="440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臀大肌深面，经坐骨结节与股骨大转子之间至股后， 在股二头肌深面下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12600" y="315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1640" y="3141720"/>
            <a:ext cx="45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般在腘窝上方分为胫神经和腓总神经，在股后部发出肌支支配大腿后群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5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4000"/>
                            </p:stCondLst>
                            <p:childTnLst>
                              <p:par>
                                <p:cTn id="8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1547640" y="0"/>
            <a:ext cx="6429600" cy="6858000"/>
            <a:chOff x="1547640" y="0"/>
            <a:chExt cx="6429600" cy="6858000"/>
          </a:xfrm>
        </p:grpSpPr>
        <p:grpSp>
          <p:nvGrpSpPr>
            <p:cNvPr id="295" name=""/>
            <p:cNvGrpSpPr/>
            <p:nvPr/>
          </p:nvGrpSpPr>
          <p:grpSpPr>
            <a:xfrm>
              <a:off x="1547640" y="0"/>
              <a:ext cx="6429600" cy="6858000"/>
              <a:chOff x="1547640" y="0"/>
              <a:chExt cx="6429600" cy="6858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7640" y="0"/>
                <a:ext cx="64296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80000" y="1120680"/>
                <a:ext cx="162000" cy="1244520"/>
              </a:xfrm>
              <a:custGeom>
                <a:avLst/>
                <a:gdLst/>
                <a:ahLst/>
                <a:rect l="l" t="t" r="r" b="b"/>
                <a:pathLst>
                  <a:path w="102" h="784">
                    <a:moveTo>
                      <a:pt x="23" y="784"/>
                    </a:moveTo>
                    <a:cubicBezTo>
                      <a:pt x="36" y="775"/>
                      <a:pt x="80" y="760"/>
                      <a:pt x="91" y="728"/>
                    </a:cubicBezTo>
                    <a:cubicBezTo>
                      <a:pt x="102" y="696"/>
                      <a:pt x="98" y="630"/>
                      <a:pt x="91" y="592"/>
                    </a:cubicBezTo>
                    <a:cubicBezTo>
                      <a:pt x="84" y="554"/>
                      <a:pt x="53" y="539"/>
                      <a:pt x="46" y="501"/>
                    </a:cubicBezTo>
                    <a:cubicBezTo>
                      <a:pt x="39" y="463"/>
                      <a:pt x="44" y="396"/>
                      <a:pt x="51" y="364"/>
                    </a:cubicBezTo>
                    <a:cubicBezTo>
                      <a:pt x="58" y="332"/>
                      <a:pt x="81" y="338"/>
                      <a:pt x="87" y="309"/>
                    </a:cubicBezTo>
                    <a:cubicBezTo>
                      <a:pt x="93" y="280"/>
                      <a:pt x="91" y="225"/>
                      <a:pt x="87" y="190"/>
                    </a:cubicBezTo>
                    <a:cubicBezTo>
                      <a:pt x="83" y="155"/>
                      <a:pt x="65" y="128"/>
                      <a:pt x="60" y="99"/>
                    </a:cubicBezTo>
                    <a:cubicBezTo>
                      <a:pt x="55" y="70"/>
                      <a:pt x="70" y="32"/>
                      <a:pt x="60" y="16"/>
                    </a:cubicBezTo>
                    <a:cubicBezTo>
                      <a:pt x="50" y="0"/>
                      <a:pt x="12" y="6"/>
                      <a:pt x="0" y="3"/>
                    </a:cubicBezTo>
                  </a:path>
                </a:pathLst>
              </a:custGeom>
              <a:noFill/>
              <a:ln w="572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35640" y="1916280"/>
                <a:ext cx="216000" cy="82440"/>
              </a:xfrm>
              <a:custGeom>
                <a:avLst/>
                <a:gdLst/>
                <a:ahLst/>
                <a:rect l="l" t="t" r="r" b="b"/>
                <a:pathLst>
                  <a:path w="136" h="52">
                    <a:moveTo>
                      <a:pt x="136" y="0"/>
                    </a:moveTo>
                    <a:cubicBezTo>
                      <a:pt x="125" y="19"/>
                      <a:pt x="114" y="38"/>
                      <a:pt x="91" y="45"/>
                    </a:cubicBezTo>
                    <a:cubicBezTo>
                      <a:pt x="68" y="52"/>
                      <a:pt x="15" y="45"/>
                      <a:pt x="0" y="45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4360" y="1328760"/>
                <a:ext cx="1224000" cy="731880"/>
              </a:xfrm>
              <a:custGeom>
                <a:avLst/>
                <a:gdLst/>
                <a:ahLst/>
                <a:rect l="l" t="t" r="r" b="b"/>
                <a:pathLst>
                  <a:path w="771" h="461">
                    <a:moveTo>
                      <a:pt x="0" y="461"/>
                    </a:moveTo>
                    <a:cubicBezTo>
                      <a:pt x="11" y="408"/>
                      <a:pt x="22" y="355"/>
                      <a:pt x="45" y="325"/>
                    </a:cubicBezTo>
                    <a:cubicBezTo>
                      <a:pt x="68" y="295"/>
                      <a:pt x="113" y="295"/>
                      <a:pt x="136" y="280"/>
                    </a:cubicBezTo>
                    <a:cubicBezTo>
                      <a:pt x="159" y="265"/>
                      <a:pt x="158" y="247"/>
                      <a:pt x="181" y="234"/>
                    </a:cubicBezTo>
                    <a:cubicBezTo>
                      <a:pt x="204" y="221"/>
                      <a:pt x="241" y="225"/>
                      <a:pt x="271" y="205"/>
                    </a:cubicBezTo>
                    <a:cubicBezTo>
                      <a:pt x="301" y="185"/>
                      <a:pt x="323" y="134"/>
                      <a:pt x="362" y="114"/>
                    </a:cubicBezTo>
                    <a:cubicBezTo>
                      <a:pt x="401" y="94"/>
                      <a:pt x="461" y="103"/>
                      <a:pt x="508" y="86"/>
                    </a:cubicBezTo>
                    <a:cubicBezTo>
                      <a:pt x="555" y="69"/>
                      <a:pt x="601" y="26"/>
                      <a:pt x="645" y="13"/>
                    </a:cubicBezTo>
                    <a:cubicBezTo>
                      <a:pt x="689" y="0"/>
                      <a:pt x="745" y="9"/>
                      <a:pt x="771" y="8"/>
                    </a:cubicBezTo>
                  </a:path>
                </a:pathLst>
              </a:custGeom>
              <a:noFill/>
              <a:ln w="572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40360" y="1773360"/>
                <a:ext cx="577800" cy="374400"/>
              </a:xfrm>
              <a:custGeom>
                <a:avLst/>
                <a:gdLst/>
                <a:ahLst/>
                <a:rect l="l" t="t" r="r" b="b"/>
                <a:pathLst>
                  <a:path w="364" h="236">
                    <a:moveTo>
                      <a:pt x="0" y="0"/>
                    </a:moveTo>
                    <a:cubicBezTo>
                      <a:pt x="15" y="11"/>
                      <a:pt x="24" y="22"/>
                      <a:pt x="46" y="45"/>
                    </a:cubicBezTo>
                    <a:cubicBezTo>
                      <a:pt x="68" y="68"/>
                      <a:pt x="113" y="115"/>
                      <a:pt x="135" y="136"/>
                    </a:cubicBezTo>
                    <a:cubicBezTo>
                      <a:pt x="157" y="157"/>
                      <a:pt x="149" y="167"/>
                      <a:pt x="181" y="172"/>
                    </a:cubicBezTo>
                    <a:cubicBezTo>
                      <a:pt x="213" y="177"/>
                      <a:pt x="297" y="152"/>
                      <a:pt x="327" y="163"/>
                    </a:cubicBezTo>
                    <a:cubicBezTo>
                      <a:pt x="357" y="174"/>
                      <a:pt x="356" y="221"/>
                      <a:pt x="364" y="236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835280" y="134136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Superior gluteal 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51280" y="155736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67280" y="1989000"/>
              <a:ext cx="180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24000" y="1773360"/>
              <a:ext cx="19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Superior gluteal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185480" y="549360"/>
            <a:ext cx="24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60093"/>
                </a:solidFill>
                <a:latin typeface="Arial"/>
              </a:rPr>
              <a:t>坐骨神经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Sciatic N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体表投影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4437000"/>
            <a:ext cx="432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0000" y="54936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6000" y="4005360"/>
            <a:ext cx="431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219640" y="764640"/>
            <a:ext cx="576360" cy="37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4000" y="227664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435640" y="4220640"/>
            <a:ext cx="2089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429264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rcRect l="0" t="5925" r="2371" b="0"/>
          <a:stretch/>
        </p:blipFill>
        <p:spPr>
          <a:xfrm>
            <a:off x="6012000" y="1125360"/>
            <a:ext cx="2663640" cy="5732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57120" y="333360"/>
            <a:ext cx="5241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 The artery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of back of t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2133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股深动脉，该动脉发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穿动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580000" y="3499920"/>
            <a:ext cx="2087640" cy="1297440"/>
            <a:chOff x="5580000" y="3499920"/>
            <a:chExt cx="2087640" cy="1297440"/>
          </a:xfrm>
        </p:grpSpPr>
        <p:sp>
          <p:nvSpPr>
            <p:cNvPr id="317" name=""/>
            <p:cNvSpPr/>
            <p:nvPr/>
          </p:nvSpPr>
          <p:spPr>
            <a:xfrm>
              <a:off x="5580000" y="4292640"/>
              <a:ext cx="2087640" cy="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16720" y="4292640"/>
              <a:ext cx="1079640" cy="50472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516720" y="3499920"/>
              <a:ext cx="1079640" cy="7923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974160" y="393372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Perforating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13080" y="33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后区的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11640" y="393372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穿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4000" y="3333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八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posterior group muscle of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932360" y="981000"/>
            <a:ext cx="3216240" cy="5877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124000" y="5805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胫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78920" y="126828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浅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198900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467480" y="33526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2360" y="220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腓肠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43280" y="2421000"/>
            <a:ext cx="792360" cy="712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2421000"/>
            <a:ext cx="1368720" cy="57456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9676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目鱼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1764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跖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716360" y="3357720"/>
            <a:ext cx="2808360" cy="712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643280" y="4076280"/>
            <a:ext cx="2376720" cy="14436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3440" y="333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腿后群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36360" y="3213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o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40766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lant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720" y="220500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astrocnem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3520" y="5059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75040" y="5059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使踝关节跖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86480" y="5780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神经支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211720" y="260280"/>
            <a:ext cx="3726000" cy="6597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81520" y="54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深层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4800600"/>
            <a:ext cx="21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3640" y="1628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腘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1276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趾长屈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41120" y="256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胫骨后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404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踇长屈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20000" y="1628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plit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-1800" y="350028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99280" y="256536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ibialis pos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8200" y="43657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Flexor hallucis lo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140360" y="1844280"/>
            <a:ext cx="1798560" cy="7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003640" y="3357360"/>
            <a:ext cx="79236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003640" y="3715920"/>
            <a:ext cx="1368720" cy="86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932360" y="2420640"/>
            <a:ext cx="144000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40600" y="53481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14680" y="5373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使踝关节跖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3920" y="5996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神经支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4600" y="59961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胫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56360" y="0"/>
            <a:ext cx="20494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2492280"/>
            <a:ext cx="251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皮肤切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765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91440" y="83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皮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692280"/>
            <a:ext cx="0" cy="649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70720" y="17733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52360"/>
            <a:ext cx="1349280" cy="430200"/>
          </a:xfrm>
          <a:custGeom>
            <a:avLst/>
            <a:gdLst/>
            <a:ahLst/>
            <a:rect l="l" t="t" r="r" b="b"/>
            <a:pathLst>
              <a:path w="850" h="271">
                <a:moveTo>
                  <a:pt x="0" y="271"/>
                </a:moveTo>
                <a:cubicBezTo>
                  <a:pt x="14" y="253"/>
                  <a:pt x="41" y="196"/>
                  <a:pt x="82" y="161"/>
                </a:cubicBezTo>
                <a:cubicBezTo>
                  <a:pt x="123" y="126"/>
                  <a:pt x="194" y="86"/>
                  <a:pt x="247" y="60"/>
                </a:cubicBezTo>
                <a:cubicBezTo>
                  <a:pt x="300" y="34"/>
                  <a:pt x="350" y="12"/>
                  <a:pt x="402" y="6"/>
                </a:cubicBezTo>
                <a:cubicBezTo>
                  <a:pt x="454" y="0"/>
                  <a:pt x="515" y="16"/>
                  <a:pt x="558" y="24"/>
                </a:cubicBezTo>
                <a:cubicBezTo>
                  <a:pt x="601" y="32"/>
                  <a:pt x="630" y="42"/>
                  <a:pt x="662" y="51"/>
                </a:cubicBezTo>
                <a:cubicBezTo>
                  <a:pt x="694" y="60"/>
                  <a:pt x="722" y="56"/>
                  <a:pt x="750" y="79"/>
                </a:cubicBezTo>
                <a:cubicBezTo>
                  <a:pt x="778" y="102"/>
                  <a:pt x="825" y="177"/>
                  <a:pt x="832" y="188"/>
                </a:cubicBezTo>
                <a:cubicBezTo>
                  <a:pt x="839" y="199"/>
                  <a:pt x="801" y="158"/>
                  <a:pt x="795" y="143"/>
                </a:cubicBezTo>
                <a:cubicBezTo>
                  <a:pt x="789" y="128"/>
                  <a:pt x="789" y="95"/>
                  <a:pt x="798" y="96"/>
                </a:cubicBezTo>
                <a:cubicBezTo>
                  <a:pt x="807" y="97"/>
                  <a:pt x="850" y="152"/>
                  <a:pt x="850" y="152"/>
                </a:cubicBezTo>
                <a:cubicBezTo>
                  <a:pt x="850" y="152"/>
                  <a:pt x="809" y="108"/>
                  <a:pt x="798" y="96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413000"/>
            <a:ext cx="1224000" cy="936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732720" y="3645000"/>
            <a:ext cx="718920" cy="71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5734080"/>
            <a:ext cx="4320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96160" y="5493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51800" y="191628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67440" y="386064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23080" y="58053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0"/>
            <a:ext cx="6624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blood vesse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nerve of posterior   region of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0840" y="2421000"/>
            <a:ext cx="29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nterior tibial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4800" y="386064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osterior tibial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93080" y="3357720"/>
            <a:ext cx="12222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2637000"/>
            <a:ext cx="93672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20000" y="1844640"/>
            <a:ext cx="1224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019400" y="614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腿后区的血管、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34600" y="292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胫前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36040" y="450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胫后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96360" y="162864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nterior tibial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24720" y="24210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posterior tibi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5520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胫前动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55200" y="2421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胫后动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61080" y="3213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perone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97480" y="321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腓动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280836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68360" y="184464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dial planta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8000" y="177336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teral planta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32000" y="2060640"/>
            <a:ext cx="1081080" cy="324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932000" y="1989000"/>
            <a:ext cx="115092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31880" y="2271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足底外侧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99160" y="2414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足底内侧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916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857320" y="260280"/>
            <a:ext cx="2689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00720" y="19162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900000" y="2133720"/>
            <a:ext cx="165744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38480" y="33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胫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6120" y="2343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胫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356000" y="1125360"/>
            <a:ext cx="2347920" cy="5732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692000" y="32130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dial planta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91320" y="314172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teral planta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3500280"/>
            <a:ext cx="1081080" cy="324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5866920" y="3500280"/>
            <a:ext cx="79236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176240" y="364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足底外侧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07520" y="3789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足底内侧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836640"/>
            <a:ext cx="47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37512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83320" y="260280"/>
            <a:ext cx="30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 popiteal f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94040" y="1197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位于膝后的菱形肌间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4000" y="2421000"/>
            <a:ext cx="4562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上外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---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股二头肌 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上内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---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半腱肌和半膜肌 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下外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---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腓肠肌外侧头 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下内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---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腓肠肌内侧头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窝顶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---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腘筋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股骨的腘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窝底（前壁）   膝关节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腘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8360" y="595008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由浅到深为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胫神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腓总神 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腘静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腘动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及其周围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淋巴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1960" y="184464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境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436572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080" y="55641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93440" y="26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腘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9440" y="1197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755640" y="242100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容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由前向后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4211640" y="255600"/>
            <a:ext cx="4932360" cy="29289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3278520" cy="3789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468360" y="33336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十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malleolar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6080" y="105264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170028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构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16320" y="1747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内踝＋屈肌支持带＋跟骨内侧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57080" y="33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踝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26520" y="1125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位于踝关节内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37120" y="5837400"/>
            <a:ext cx="12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踇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长屈肌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33800" y="5261040"/>
            <a:ext cx="9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神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87280" y="4653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胫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动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静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37120" y="4005360"/>
            <a:ext cx="12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趾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长屈肌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37120" y="3429000"/>
            <a:ext cx="12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胫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骨后肌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007" t="0" r="2788" b="11929"/>
          <a:stretch/>
        </p:blipFill>
        <p:spPr>
          <a:xfrm>
            <a:off x="3995640" y="880920"/>
            <a:ext cx="2303640" cy="5977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8560" y="1890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uperficial fas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" y="981000"/>
            <a:ext cx="2515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cutaneous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73360"/>
            <a:ext cx="50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uperior glute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3372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nferior glute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94172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osterior femor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242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iddle glute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16720" y="907920"/>
            <a:ext cx="24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superior glute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12000" y="33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76360" y="1413000"/>
            <a:ext cx="136692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0500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middle glute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356000" y="2421000"/>
            <a:ext cx="215928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3429000"/>
            <a:ext cx="24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inferior glute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859280" y="3716280"/>
            <a:ext cx="165600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16720" y="4653000"/>
            <a:ext cx="243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posterior femor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148000" y="5084640"/>
            <a:ext cx="143964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0560" y="18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浅筋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84680" y="1047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皮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27240" y="2251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臀上皮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27240" y="3332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臀中皮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55600" y="44118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臀下皮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5600" y="5491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股后皮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34400" y="5373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股后皮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34400" y="4149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臀下皮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62760" y="2852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臀中皮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89680" y="155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臀上皮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458136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起自足背静脉弓外侧端，经外踝后方，上行至小腿后面，穿腘筋膜注入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腘静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227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腓肠外侧皮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8520" y="549360"/>
            <a:ext cx="32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dial cural cutaneous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8880" y="1773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teral cural cutaneous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600" y="29242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ural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7600" y="1916280"/>
            <a:ext cx="19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medial cur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404640"/>
            <a:ext cx="202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lateral cural cutaneous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5080" y="335772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sural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640" y="371628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small  saphenous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72000" y="1268280"/>
            <a:ext cx="64908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084360" y="2565360"/>
            <a:ext cx="863640" cy="43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084720" y="3716280"/>
            <a:ext cx="935280" cy="504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84360" y="4724280"/>
            <a:ext cx="1008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0920" y="443700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mall  saphenous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37840" y="1052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腓肠内侧皮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9268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腓肠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2552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隐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14560" y="119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腓肠外侧皮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86200" y="270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腓肠内侧皮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20320" y="3789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腓肠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6320" y="53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小隐静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59280" y="1989000"/>
            <a:ext cx="309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2720" y="260280"/>
            <a:ext cx="18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三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gluteus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6720" y="26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臀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3040" y="9810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superficial lay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9240" y="4221000"/>
            <a:ext cx="34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nsor fasciae la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5805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臀上神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7840" y="5013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屈髋关节和伸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5013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90880" y="5780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神经支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703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 flipV="1">
            <a:off x="2050920" y="3500280"/>
            <a:ext cx="936720" cy="86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403280" y="1700280"/>
            <a:ext cx="165600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5960" y="2755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使髋关节后伸和外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21200" y="3548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臀下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206064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臀大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422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阔筋膜张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18080" y="2755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47960" y="3548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神经支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5480" y="974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浅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6960" y="160200"/>
            <a:ext cx="29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middle layer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05360" y="14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臀中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34080" y="21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梨状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78440" y="2852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孖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00480" y="35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闭孔内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8920" y="361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9444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股方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932360" y="627120"/>
            <a:ext cx="3208320" cy="930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341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Gluteus me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788000" y="1439640"/>
            <a:ext cx="2679480" cy="765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24000" y="213372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irifo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357336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Obturator inter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157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Quadratus fem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76720" y="2276280"/>
            <a:ext cx="2843280" cy="3097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219640" y="1916280"/>
            <a:ext cx="2541600" cy="17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000" y="203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2852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superior  gemel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43657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inferior gemel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003640" y="1773360"/>
            <a:ext cx="2684520" cy="1295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076720" y="2060640"/>
            <a:ext cx="2611440" cy="244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9720" y="4365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孖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78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719520" y="0"/>
            <a:ext cx="5424480" cy="6597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1835280" y="155736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9440" y="126828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60093"/>
                </a:solidFill>
                <a:latin typeface="Arial"/>
              </a:rPr>
              <a:t>gluteus me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63008" t="-1512" r="384" b="0"/>
          <a:stretch/>
        </p:blipFill>
        <p:spPr>
          <a:xfrm>
            <a:off x="5796000" y="0"/>
            <a:ext cx="3348000" cy="6784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98600" y="765000"/>
            <a:ext cx="22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dee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0" r="-878" b="1280"/>
          <a:stretch/>
        </p:blipFill>
        <p:spPr>
          <a:xfrm>
            <a:off x="3564000" y="476280"/>
            <a:ext cx="2308320" cy="5904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16320" y="3279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臀小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256392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luteus min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32800" y="500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闭孔外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000" y="429264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bturator  inter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03640" y="3141720"/>
            <a:ext cx="4394160" cy="7128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03640" y="1557000"/>
            <a:ext cx="1728720" cy="165564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120" y="83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深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60280"/>
            <a:ext cx="69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四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lood vessel and nerves of gulteal region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292640"/>
            <a:ext cx="26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esser sciatic for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700360" y="1052640"/>
            <a:ext cx="4906800" cy="5805360"/>
            <a:chOff x="2700360" y="1052640"/>
            <a:chExt cx="4906800" cy="580536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2700360" y="1052640"/>
              <a:ext cx="4906800" cy="58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8499600">
              <a:off x="3080880" y="2930040"/>
              <a:ext cx="419040" cy="122580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352600">
              <a:off x="3104640" y="2997000"/>
              <a:ext cx="360360" cy="1873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V="1">
            <a:off x="1979640" y="4005000"/>
            <a:ext cx="111924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2276640"/>
            <a:ext cx="3200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Infrapiriform for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2852640"/>
            <a:ext cx="1536840" cy="911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836640"/>
            <a:ext cx="302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Suprapiriform for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1700280"/>
            <a:ext cx="266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reat sciatic for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779640" y="2060640"/>
            <a:ext cx="1944360" cy="12351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779640" y="1341360"/>
            <a:ext cx="1368360" cy="1820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40320" y="47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坐骨小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2852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60093"/>
                </a:solidFill>
                <a:latin typeface="Arial"/>
              </a:rPr>
              <a:t>梨状肌下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26400" y="90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60093"/>
                </a:solidFill>
                <a:latin typeface="Arial"/>
              </a:rPr>
              <a:t>梨状肌上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6680" y="220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坐骨大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1120" y="3078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臀区的血管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04:55:25Z</dcterms:created>
  <dc:creator>zxy</dc:creator>
  <dc:description/>
  <dc:language>en-US</dc:language>
  <cp:lastModifiedBy>中国 抚州</cp:lastModifiedBy>
  <dcterms:modified xsi:type="dcterms:W3CDTF">2014-11-11T12:43:48Z</dcterms:modified>
  <cp:revision>68</cp:revision>
  <dc:subject/>
  <dc:title>纵隔：概述</dc:title>
</cp:coreProperties>
</file>