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542-295D-4A89-9D16-D902489D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87A-2CFD-4DAD-ABE5-9FD0A6C3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19A-F904-4C2B-BC44-D7C062EF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64F-A566-46E8-B2A0-C43DB17A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7C3C-058B-429E-8000-ECB223E7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BB5A-AC0D-422D-B996-A54F18D4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5E06-F759-403A-B7B6-0808B09C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2C1E-C46D-4F3E-B76E-8DC01B54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CF97-462F-42FF-9F9F-314C847A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1CA2-8CCE-4378-AA8C-A7B03564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D2F4-1A20-40BC-95B3-264BDC9E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F2A-EF33-4784-9584-C1333CD0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00DB-55EB-4C95-B91A-450AB8D6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7EE0-AD17-4397-A924-3F5C7A4D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F283-517A-4353-AEE4-A3B82F13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D8A7-AB5D-4EEE-AEAF-CFC21650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FC01-A1D8-4119-A15F-C2933AA7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9F693-093A-4989-B15C-FFB645A3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7A1D7-6F13-4BAA-8A8D-F08A495C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60844-3741-4621-97DB-C32829E5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12012-2AD5-4CE4-9FBE-F7D2F37D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A2F8-206D-4089-A44A-F3EA4B79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188-C95D-4BA3-8A2A-0E6DDFEE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BD7C3-6290-4D60-B835-579643FE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507A0-A679-4D85-B778-40FFF57C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343C-22D9-4352-BB5C-95627BAB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FACAB-E3B2-41CD-AB18-D95ECD2B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647FB-B834-4067-98E3-0C71FE1A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77FA1-F825-4229-B3EA-492973FF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1574F-B261-47E7-9885-E650A9BE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D34C4-D3C0-4E48-A4CF-024F7EAB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71EE0-C15F-4B40-A6F3-3FFF8C80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6D5F2-70E7-418F-807A-0F365B5D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4463-3F28-4C85-9C4D-CE92DABA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B7BF0-B6CD-4875-8C67-6C44B802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1F491-25E0-4757-AFA5-FC774036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0D87B-3146-4C40-ADD2-D2D6802A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1A018-48FC-4D4C-8562-35C5AE6F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7327D-E5BB-403F-AAA4-418C4D9E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F9CBB-7828-4659-9110-267F6E4D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F6EAA-3AE5-4293-8C6E-197920E4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E9715-9EB4-4134-8B9F-2F345811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137EC-38DA-48B6-BAFA-3738A0BA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156-0868-464F-AF29-64A4CA03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AC6-7493-4959-BD10-7E589FC8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79E-8B57-4EAE-8D66-4954FFB4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152E-D408-46BE-A421-3394BB85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EAD-3301-4DC9-B6ED-DCD618F7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38080"/>
            <a:ext cx="914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ccd8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7960"/>
            <a:ext cx="9144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C1E0-0B32-495C-B60B-D0B259802C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b8d4fe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916680" y="6337440"/>
            <a:ext cx="1040040" cy="5205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3603600" y="6337440"/>
            <a:ext cx="1039680" cy="5205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28000" y="6337440"/>
            <a:ext cx="1039680" cy="5205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5796000" y="6337440"/>
            <a:ext cx="1039680" cy="52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" name=""/>
          <p:cNvGraphicFramePr/>
          <p:nvPr/>
        </p:nvGraphicFramePr>
        <p:xfrm>
          <a:off x="2587680" y="6453360"/>
          <a:ext cx="936720" cy="317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87680" y="6453360"/>
                    <a:ext cx="93672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" name="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4716360" y="6337440"/>
            <a:ext cx="1040040" cy="52056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EB07-9DA5-4176-A8EB-BF27EEA01CE3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838080"/>
            <a:ext cx="914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ccd8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627960"/>
            <a:ext cx="9144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9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0076-89C9-4AD9-B22E-01CA210A1A34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b8d4fe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5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CBB4-694D-42F4-A2EA-83BD36484DEB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25800" y="21319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二、侧柏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74920" y="32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五、番泻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27240" y="21319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一、银杏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32200" y="2124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三、桑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2800" y="21319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四、枇杷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75000" y="32004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六、紫苏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03800" y="32004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七、艾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52320" y="78840"/>
            <a:ext cx="4783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1f7e9"/>
                </a:solidFill>
                <a:latin typeface="华文新魏"/>
                <a:ea typeface="华文新魏"/>
              </a:rPr>
              <a:t>第七章 叶类药材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638680" y="1066680"/>
            <a:ext cx="3326040" cy="2971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1447920"/>
            <a:ext cx="47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】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叶片展平后呈卵形或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宽卵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先端渐尖，基部截形、圆形或心形，边缘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锯齿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钝锯齿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表面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黄绿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浅黄棕色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质脆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微，味淡、微苦涩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3376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桑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464832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含芸香苷、腺嘌呤、胆碱、葫芦巴碱、麦角甾醇、维生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疏散风热，清肺润燥，清肝明目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用于风热感冒，肺热燥咳，头晕头痛，目赤。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51240" y="155520"/>
            <a:ext cx="5505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、桑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Mor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52280" y="1600200"/>
            <a:ext cx="85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枇杷味美甘甜，是我国南方常见水果，其叶味苦形殊，是临床常用的止咳平喘药，因叶的背面有毛，易致咳嗽，故用时去毛为要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2895480"/>
            <a:ext cx="875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来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为蔷薇科植物枇杷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riobotrya japonica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Thunb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Lindl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的干燥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04680" y="188640"/>
            <a:ext cx="6296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、枇杷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Eriobotrya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886200" cy="2914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79280" y="1197000"/>
            <a:ext cx="4105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鉴定注意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叶片呈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长椭圆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倒卵形，先端尖，基部楔形，边缘有疏锯齿，近基部全缘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表面灰绿色、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黄棕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红棕色，较光滑；下表面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密被黄色绒毛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叶柄极短，被棕黄色绒毛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革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脆，易折断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微，味微苦。如图所示。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0049400">
            <a:off x="5769720" y="5374800"/>
            <a:ext cx="1800360" cy="493920"/>
          </a:xfrm>
          <a:prstGeom prst="wedgeRectCallout">
            <a:avLst>
              <a:gd name="adj1" fmla="val -77518"/>
              <a:gd name="adj2" fmla="val 208250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枇杷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05040" y="189000"/>
            <a:ext cx="629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、枇杷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Eriobotry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52280" y="3429000"/>
            <a:ext cx="8667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含苦杏仁苷、皂苷、熊果酸、齐墩果酸、维生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维生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清肺止咳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降逆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止呕。用于肺热咳嗽，气逆喘急，胃热呕逆，烦热口渴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9640" y="1844640"/>
            <a:ext cx="792000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课堂互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察枇杷叶的性状特征，指出最主要鉴别特征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05040" y="189000"/>
            <a:ext cx="629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、枇杷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Eriobotry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1484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番泻叶是我国进口药材之一，主产于印度、埃及等地，为中医临床常用的清热泻下药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2924280"/>
            <a:ext cx="8610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来源】为豆科植物狭叶番泻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assia angustifolia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Vahl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或尖叶番泻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assia acutifolia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Delile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的干燥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小叶</a:t>
            </a:r>
            <a:r>
              <a:rPr b="0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原植物形态特征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狭叶番泻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为矮小灌木，高约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5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叶互生，偶数羽状复叶，小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。总状花序腋生或顶生。荚果扁平长方形，种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枚，花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，果期次年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尖叶番泻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上种相似，但小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。荚果。种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枚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306160" y="188640"/>
            <a:ext cx="5937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、番泻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Senna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5640" y="40719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80880" y="1676520"/>
            <a:ext cx="8534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产地】主产于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印度、埃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地。我国广东、海南、云南也有栽培。  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采收加工】狭叶番泻叶在开花前摘下叶片，阴干，然后加压打包。尖叶番泻叶于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间果实将成熟时，剪下枝条，摘取叶片后晒干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06520" y="189000"/>
            <a:ext cx="5937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、番泻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Senn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4000" y="1484280"/>
            <a:ext cx="54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狭叶番泻：长卵形或卵状披针形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端急尖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叶基稍不对称。上表面黄绿色，下表面浅黄绿色，革质。气微弱而特异，味微苦，稍有黏性。如图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尖叶番泻：披针形或长卵形，略卷曲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端短尖或微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叶基不对称，两面均有细短毛茸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1969400">
            <a:off x="3202920" y="5012640"/>
            <a:ext cx="2160360" cy="1152360"/>
          </a:xfrm>
          <a:prstGeom prst="cloudCallout">
            <a:avLst>
              <a:gd name="adj1" fmla="val -129490"/>
              <a:gd name="adj2" fmla="val 172222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番泻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3124080" cy="2624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306520" y="189000"/>
            <a:ext cx="5937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、番泻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Senn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2522520" y="6337440"/>
            <a:ext cx="1041480" cy="520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50920" y="1484280"/>
            <a:ext cx="8642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显微鉴定】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番泻叶横切面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种叶的横切面特征大体相同：上下表皮均有气孔和单细胞非腺毛。叶肉组织为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等面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上栅栏细胞长柱状，通过中脉，下栅栏细胞较短；海绵细胞中常含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草酸钙簇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中脉维管束外韧型，上下二侧均有微木化的纤维束，其外侧薄壁细胞常含草酸钙方晶，形成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晶纤维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如图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06520" y="189000"/>
            <a:ext cx="5937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、番泻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Senn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5121000" cy="3520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11280" y="1052640"/>
            <a:ext cx="1944720" cy="10080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5414000">
            <a:off x="2031480" y="712080"/>
            <a:ext cx="846360" cy="1849320"/>
          </a:xfrm>
          <a:prstGeom prst="wedgeEllipseCallout">
            <a:avLst>
              <a:gd name="adj1" fmla="val -110837"/>
              <a:gd name="adj2" fmla="val 52074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栅栏组织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4644200">
            <a:off x="1041840" y="2205360"/>
            <a:ext cx="1225800" cy="1008000"/>
          </a:xfrm>
          <a:prstGeom prst="wedgeEllipseCallout">
            <a:avLst>
              <a:gd name="adj1" fmla="val -98601"/>
              <a:gd name="adj2" fmla="val 158425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海绵组织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2758400">
            <a:off x="610920" y="3141360"/>
            <a:ext cx="1224000" cy="792000"/>
          </a:xfrm>
          <a:prstGeom prst="wedgeEllipseCallout">
            <a:avLst>
              <a:gd name="adj1" fmla="val -241185"/>
              <a:gd name="adj2" fmla="val 282925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脉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5661000"/>
            <a:ext cx="338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4360" y="5589720"/>
            <a:ext cx="3168720" cy="459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番泻叶横切面简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0800000">
            <a:off x="1403280" y="5013000"/>
            <a:ext cx="1873440" cy="647640"/>
          </a:xfrm>
          <a:prstGeom prst="cloudCallout">
            <a:avLst>
              <a:gd name="adj1" fmla="val -63222"/>
              <a:gd name="adj2" fmla="val 164212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非腺毛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06520" y="189000"/>
            <a:ext cx="5937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、番泻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Senn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24000" y="1347840"/>
            <a:ext cx="34560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999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番泻叶粉末：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淡绿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黄绿色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晶纤维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草酸钙方晶直径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5µ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非腺毛单细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壁厚，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疣状突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草酸钙簇晶存在于叶肉薄壁细胞中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下表皮均有气孔，主要为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平轴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副卫细胞大多为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，也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的。如图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9150200">
            <a:off x="6732720" y="1052640"/>
            <a:ext cx="1224000" cy="93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非腺毛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2798600">
            <a:off x="4066920" y="4652280"/>
            <a:ext cx="865080" cy="1368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晶纤维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24360" y="2781360"/>
            <a:ext cx="934920" cy="10080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2809400">
            <a:off x="3994920" y="2636640"/>
            <a:ext cx="1081080" cy="863280"/>
          </a:xfrm>
          <a:prstGeom prst="wedgeEllipseCallout">
            <a:avLst>
              <a:gd name="adj1" fmla="val -92092"/>
              <a:gd name="adj2" fmla="val 119342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气孔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0393200">
            <a:off x="6084360" y="5805360"/>
            <a:ext cx="1079640" cy="648000"/>
          </a:xfrm>
          <a:prstGeom prst="wedgeEllipseCallout">
            <a:avLst>
              <a:gd name="adj1" fmla="val -128689"/>
              <a:gd name="adj2" fmla="val 22931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簇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06520" y="189000"/>
            <a:ext cx="5937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、番泻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Senn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52280" y="16002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81004"/>
                </a:solidFill>
                <a:latin typeface="黑体"/>
                <a:ea typeface="黑体"/>
              </a:rPr>
              <a:t>银杏树又名公孙树、鸭掌树。为古代遗子植物，在地球上已存在约</a:t>
            </a:r>
            <a:r>
              <a:rPr b="0" lang="zh-CN" sz="2400" spc="-1" strike="noStrike">
                <a:solidFill>
                  <a:srgbClr val="081004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81004"/>
                </a:solidFill>
                <a:latin typeface="黑体"/>
                <a:ea typeface="黑体"/>
              </a:rPr>
              <a:t>亿年，素有“天然活化石”之称。寿命颇长，有的可活上千年，其叶具有较高的药用价值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0384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81004"/>
                </a:solidFill>
                <a:latin typeface="黑体"/>
                <a:ea typeface="黑体"/>
              </a:rPr>
              <a:t>【来源】为银杏科植物银杏</a:t>
            </a:r>
            <a:r>
              <a:rPr b="0" i="1" lang="zh-CN" sz="2400" spc="-1" strike="noStrike">
                <a:solidFill>
                  <a:srgbClr val="081004"/>
                </a:solidFill>
                <a:latin typeface="黑体"/>
                <a:ea typeface="黑体"/>
              </a:rPr>
              <a:t>Ginkgo biloba</a:t>
            </a:r>
            <a:r>
              <a:rPr b="0" lang="zh-CN" sz="2400" spc="-1" strike="noStrike">
                <a:solidFill>
                  <a:srgbClr val="081004"/>
                </a:solidFill>
                <a:latin typeface="黑体"/>
                <a:ea typeface="黑体"/>
              </a:rPr>
              <a:t> L</a:t>
            </a:r>
            <a:r>
              <a:rPr b="0" lang="zh-CN" sz="2400" spc="-1" strike="noStrike">
                <a:solidFill>
                  <a:srgbClr val="081004"/>
                </a:solidFill>
                <a:latin typeface="黑体"/>
                <a:ea typeface="黑体"/>
              </a:rPr>
              <a:t>．的干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燥叶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5689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、银杏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Ginkgo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5880" y="5791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银杏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52280" y="1773360"/>
            <a:ext cx="8763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主含番泻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芦荟大黄素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双蒽酮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大黄酸葡萄糖苷、芦荟大黄素葡萄糖苷及少量大黄酸、 芦荟大黄素等。番泻叶的泻下有效成分及其泻下作用机理均与大黄相似，但不含大量鞣质类成分，故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无泻后继发便秘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副作用，因而可用于习惯性便秘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泻热行滞，通便，利水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用于热结积滞，便秘腹痛，水肿胀满。每日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入煎剂宜后下，或开水泡服。注意孕妇慎用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06520" y="189000"/>
            <a:ext cx="5937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、番泻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Senn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04920" y="1700280"/>
            <a:ext cx="8480160" cy="317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链接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  番泻叶广泛用于治截瘫病人大便潴留，开颅手术后引起的便秘，外伤便秘及老年性便秘等。也常用作妇科手术、结肠手术前的肠道用药准备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伪品  在进口番泻叶中曾发现掺有耳叶番泻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assia auriculat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干燥叶片。本品含蒽苷甚微，无泻下成分，不供药用。叶端钝圆或微凹，两面均有较多的毛茸，主脉基部及小叶柄处毛茸多而密。气微，味微苦，稍有粘性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06520" y="189000"/>
            <a:ext cx="5937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、番泻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Senn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52280" y="1557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紫苏叶因部分茎和叶呈紫色而得名，为治疗风寒表证常用药，另可用于妊娠呕吐，鱼蟹中毒等症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280" y="26370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来源】为唇形科植物紫苏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erilla frutescens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(L.)Britt</a:t>
            </a:r>
            <a:r>
              <a:rPr b="0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．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的干燥叶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或带嫩枝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39560" y="155160"/>
            <a:ext cx="6219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六、紫苏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Perilla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52280" y="1828800"/>
            <a:ext cx="439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叶片多皱缩卷曲、破碎，完整者展平后呈卵圆形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边缘具圆锯齿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  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面紫色或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上表面绿色，下表面紫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质脆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气清香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味微辛。如图所示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34360" y="5295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紫苏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505320" cy="30337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39920" y="155520"/>
            <a:ext cx="62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六、紫苏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Perill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2280" y="1447920"/>
            <a:ext cx="883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含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挥发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紫苏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0.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％，油中主要成分为紫苏醛、紫苏醇、紫苏酮、紫苏红素等。紫苏醛为紫苏油的香气成分，具防腐作用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表散寒，行气和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用于风寒感冒，咳嗽呕恶，妊娠呕吐，鱼蟹中毒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3733920"/>
            <a:ext cx="861048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链接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紫苏子  简称“苏子”，为紫苏的成熟果实。功效降气消痰，润肠平喘。用于咳嗽气逆，痰多喘急，肠燥便秘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验方  治食鱼蟹中毒，包括过敏，出现腹痛、呕吐，或遍身风疹瘙痒，可用鲜苏叶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、生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，加清水二碗半，煮至二碗，一日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口服。若上方中再加入厚朴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、生甘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，效果更好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39920" y="155520"/>
            <a:ext cx="62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六、紫苏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Perill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79280" y="15573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艾叶是我国劳动人民认识和应用较早的中药之一，除内服外，还可制成艾条，以灸法治病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26370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来源】为菊科植物艾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rtemisia argy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Levi.et Van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干燥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46200" y="115920"/>
            <a:ext cx="712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七、艾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Artemisiae Argyi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28600" y="2057400"/>
            <a:ext cx="4635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皱缩破碎。完整叶片展平后呈卵状椭圆形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羽状深裂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边缘有不规则的粗锯齿；上表面灰绿色，有稀疏的柔毛及腺点；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下表面密生灰白色绒毛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质柔软。气清香，味苦。如图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52800" y="5183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艾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09880" cy="3027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546200" y="115920"/>
            <a:ext cx="7129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七、艾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Artemisiae Argy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2522520" y="6337440"/>
            <a:ext cx="1041480" cy="5205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04920" y="1828800"/>
            <a:ext cx="8458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主要含有挥发油，油中主要成分为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,8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桉油精、水芹烯、樟脑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散寒止痛，温经止血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用于少腹冷痛，经寒不调，宫冷不孕，吐血，衄血，崩漏经多，妊娠下血；外治皮肤瘙痒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46200" y="115920"/>
            <a:ext cx="7129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七、艾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Artemisiae Argy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8600" y="1600200"/>
            <a:ext cx="861048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堂互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依据中医理论，解释艾叶与侧柏叶止血作用有何不同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0920" y="2997360"/>
            <a:ext cx="8569080" cy="286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知识拓展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治疗痛经：用生艾叶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克，红花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克，开水泡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至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30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分钟，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次口服，一般在经来前或经期服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剂，效果良好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用于养生保健：养生堂用艾叶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克，红花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克，开水泡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15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分钟，泡脚，有驱寒通经的作用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3.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艾香：据临床报道，医院手术室准备间，走廊利用艾香点燃，进行空间杀菌消毒，效果显著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46200" y="115920"/>
            <a:ext cx="7129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七、艾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Artemisiae Argy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143000" y="2590920"/>
            <a:ext cx="6781680" cy="13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观看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32" name=""/>
          <p:cNvSpPr/>
          <p:nvPr/>
        </p:nvSpPr>
        <p:spPr>
          <a:xfrm>
            <a:off x="6435000" y="57643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1f7e9"/>
                </a:solidFill>
                <a:latin typeface="Arial"/>
                <a:ea typeface="隶书"/>
              </a:rPr>
              <a:t>卫生部教材办公室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53080" y="61657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1f7e9"/>
                </a:solidFill>
                <a:latin typeface="Arial"/>
                <a:ea typeface="隶书"/>
              </a:rPr>
              <a:t>人民卫生电子音像出版社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12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天然药物学（配套光盘）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235320" cy="2868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" y="1676520"/>
            <a:ext cx="4968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整者呈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扇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黄绿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浅棕黄色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具二叉分支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叶脉细而密，叶面光滑无毛，易纵向撕裂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轻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微，味微苦。如图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0599600">
            <a:off x="6573240" y="4704840"/>
            <a:ext cx="1368360" cy="1513080"/>
          </a:xfrm>
          <a:prstGeom prst="cloudCallout">
            <a:avLst>
              <a:gd name="adj1" fmla="val -21925"/>
              <a:gd name="adj2" fmla="val 135101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银杏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50920" y="189000"/>
            <a:ext cx="568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、银杏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Ginkg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68360" y="1628640"/>
            <a:ext cx="8280360" cy="89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课堂互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楷体_GB2312"/>
              </a:rPr>
              <a:t>观察银杏叶药材或饮片，找出主要性状鉴别特征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2852640"/>
            <a:ext cx="820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含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银杏双黄酮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异鼠李素、山柰酚、槲皮素、银杏内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白果内酯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敛肺平喘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活血化瘀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止痛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于肺虚咳喘，冠心病，心绞痛，高脂血症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189000"/>
            <a:ext cx="568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、银杏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Ginkg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108600" cy="2778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343400" y="1676520"/>
            <a:ext cx="4572000" cy="43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链接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银杏）为银杏的干燥成熟种子。白果味甘苦带涩，性平有小毒。主要功能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敛肺定喘，止带浊，缩小便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用于痰多咳嗽，带下白浊，遗尿，尿频。中国民间也有食用白果的习惯，但白果不宜多吃，食前应将果中绿色胚芽（有毒）除去，以防不良反应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9546600">
            <a:off x="394920" y="5516280"/>
            <a:ext cx="1728720" cy="865080"/>
          </a:xfrm>
          <a:prstGeom prst="wedgeEllipseCallout">
            <a:avLst>
              <a:gd name="adj1" fmla="val -115120"/>
              <a:gd name="adj2" fmla="val 166305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白果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0920" y="189000"/>
            <a:ext cx="568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、银杏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Ginkg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628640"/>
            <a:ext cx="828036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知识拓展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１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银杏叶片剂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为银杏叶提取物经加工制成的药片。功效为活血化瘀通络；用于瘀血阻络引起的胸痹心痛、中风、半身不遂以及冠心病稳定型心绞痛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２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银杏叶在国外的使用及研究情况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西方草药之冠</a:t>
            </a:r>
            <a:r>
              <a:rPr b="0" lang="zh-CN" sz="2400" spc="-1" strike="noStrike">
                <a:solidFill>
                  <a:srgbClr val="081004"/>
                </a:solidFill>
                <a:latin typeface="楷体_GB2312"/>
                <a:ea typeface="楷体_GB2312"/>
              </a:rPr>
              <a:t>：银杏可多部位入药，对人类的贡献是较大的，如树皮、树根、树叶、果仁都有不同的医疗价值。其中银杏叶在西方国家的医疗保健使用量是所有草药之冠。据悉世界各国（尤其是在法国和德国）每天有数以万计的处方，数百万的人在服用银杏叶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189000"/>
            <a:ext cx="568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、银杏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Ginkg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897360" cy="42181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04920" y="1676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始载于《神农本草经》，列为上品。李时珍谓：“柏有数种，入药惟取叶扁而侧生者”故曰侧柏。侧柏叶为中医临床常用的凉血止血药。柏子仁为中医临床常用的养心安神药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4495680"/>
            <a:ext cx="401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来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为柏科植物侧柏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latycladusorientalis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L.)Franco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的干燥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枝梢及叶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7778000">
            <a:off x="4742640" y="2221560"/>
            <a:ext cx="1297080" cy="936360"/>
          </a:xfrm>
          <a:prstGeom prst="cloudCallout">
            <a:avLst>
              <a:gd name="adj1" fmla="val -45680"/>
              <a:gd name="adj2" fmla="val 112953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侧柏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58880" y="155160"/>
            <a:ext cx="6585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侧柏叶  </a:t>
            </a:r>
            <a:r>
              <a:rPr b="0" lang="es-E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acumen Platycladi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3108600" cy="2274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28600" y="1523880"/>
            <a:ext cx="431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】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分枝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枝扁平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叶细小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鳞片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交互对生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贴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于枝上，深绿色或黄绿色。       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质脆，易折断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气清香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味苦涩、微辛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2590920"/>
            <a:ext cx="1752480" cy="914400"/>
          </a:xfrm>
          <a:prstGeom prst="cloudCallout">
            <a:avLst>
              <a:gd name="adj1" fmla="val 67754"/>
              <a:gd name="adj2" fmla="val -5032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侧柏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400536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含扁柏双黄酮、新柳杉双黄酮、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槲皮素、槲皮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山柰酚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凉血止血，生发乌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用于吐血衄血，咯血，便血，崩漏下血，血热脱发，须发早白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58880" y="155520"/>
            <a:ext cx="658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侧柏叶  </a:t>
            </a:r>
            <a:r>
              <a:rPr b="0" lang="es-E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acumen Platyclad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600" y="1905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说，桑树全身都是宝，叶可养蚕，皮可造纸，果可食用，叶、枝、果穂、根皮均是药，确实不虚此名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4365720"/>
            <a:ext cx="33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来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为桑科植物桑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orus alba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L.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的干燥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5562720"/>
            <a:ext cx="1355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50880" y="155160"/>
            <a:ext cx="5505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、桑叶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olium Mori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4857840" cy="3565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920" y="6580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1f7e9"/>
                </a:solidFill>
                <a:latin typeface="宋体"/>
              </a:rPr>
              <a:t>第七章 叶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05:17:05Z</dcterms:created>
  <dc:creator>dmf</dc:creator>
  <dc:description/>
  <dc:language>en-US</dc:language>
  <cp:lastModifiedBy>epmph</cp:lastModifiedBy>
  <dcterms:modified xsi:type="dcterms:W3CDTF">2008-12-18T06:25:33Z</dcterms:modified>
  <cp:revision>303</cp:revision>
  <dc:subject/>
  <dc:title>天然药物学课件第七章叶类</dc:title>
</cp:coreProperties>
</file>