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A16-DD55-4016-8F08-5D3D3A71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E4A-56C4-4AB6-9084-9B26DBFA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02C-49E5-436D-807A-0B1C5B18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922-C7DA-4876-900D-AD26753F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6EDF-8FD1-4BDF-A6A3-6DA19B43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B848-9314-4BA6-A6F4-0878DC7D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F0E8-6D85-48CD-BBF1-AD6908E5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88E9-3D58-4432-967F-16563409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62E6-C0BE-4352-8A03-D9A015C8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EBB7-0E3A-4BCA-8443-2C245450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C581-249E-4E6A-B5A2-3B053DE7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72F-4843-453E-B880-EDE89A7B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7B5D-33D6-4435-BE2A-FD944665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92A1-1A60-4378-AAB1-30441131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AF39-845C-4E9D-8698-2201DF7C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747A-AA6D-4033-A5A7-50FA062E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D838-4816-43A6-8CF2-DC7ADA07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FBA8-7FF0-4086-8595-F15C5EBA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5730-8982-4E57-9EDC-741E083A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D83C2-EDEB-499D-BDBA-D341505D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72BCD-C4E6-445F-9F36-BC676546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7785D-B294-46C4-B4FF-FBA1B95B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CD6-0ACA-481E-BD40-8EF4B16F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CC8C-10A5-4C31-AA05-775D755A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DA67-F61A-420D-B65E-69524492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C005E-24E4-408C-B205-C015C552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ED91-C922-4A23-9422-071F85F2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DD08-7231-4DE4-9320-A2D2E9BD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B0D50-6F89-4AD4-A401-E2F516AD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B98A-E6E8-43D2-A57F-CF017C48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B2DF2-4DF8-431F-B15F-3D3F0486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71D1-B234-48FF-9028-11C40733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2763D-D9B6-4965-A697-E0C0F72B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FDC-C05E-4042-BED8-4C6B92AF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B374-5437-4E99-A29C-B4F88D53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B1799-6486-489D-8C0B-E4C347D0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17D2-1A22-4636-B1CC-43D578D9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D2034-E62E-486A-89E6-A6D22A92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76897-C364-42AB-829B-417534BC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6F6B5-A278-4E13-AFFF-F56975EE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54F94-FB75-4644-82C6-3DEA8775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F702F-BF50-4894-83DC-FAA81475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24B8D-BC59-4F24-B7A0-AD7FCF38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1E6-B830-4C90-84C6-DDC62B3D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E63-11B4-4C67-8722-32BF6516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2DA-8A10-4E48-BB20-8E90C8E4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30A-BEEE-4256-9E69-83A0461A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AAD-CFE7-48D8-8AF0-8832DA70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38080"/>
            <a:ext cx="914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ccd8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7960"/>
            <a:ext cx="9144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5745-0CDA-4731-A13B-D3665A7869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b8d4fe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916680" y="6337440"/>
            <a:ext cx="1040040" cy="5205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3603600" y="6337440"/>
            <a:ext cx="1039680" cy="5205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28000" y="6337440"/>
            <a:ext cx="1039680" cy="5205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5796000" y="6337440"/>
            <a:ext cx="1039680" cy="52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" name=""/>
          <p:cNvGraphicFramePr/>
          <p:nvPr/>
        </p:nvGraphicFramePr>
        <p:xfrm>
          <a:off x="2587680" y="6453360"/>
          <a:ext cx="936720" cy="317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87680" y="6453360"/>
                    <a:ext cx="93672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4716360" y="6337440"/>
            <a:ext cx="1040040" cy="52056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387E-F811-4068-ACEC-BC693F389B44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838080"/>
            <a:ext cx="914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ccd8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627960"/>
            <a:ext cx="9144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1A68-1AC3-43EC-8FE8-985C299C2173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b8d4fe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5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F358-14E5-4DCF-8B44-994B3533A3AA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25440" y="2131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二、槐花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28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五、金银花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74240" y="2131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一、辛夷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32200" y="2124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三、丁香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2800" y="2131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四、洋金花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3276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六、红花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82920" y="328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七、菊花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4400" y="327672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八、蒲黄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53840" y="7416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1f7e9"/>
                </a:solidFill>
                <a:latin typeface="华文新魏"/>
                <a:ea typeface="华文新魏"/>
              </a:rPr>
              <a:t>第八章 花类药材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1600200"/>
            <a:ext cx="518148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槐角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为槐的干燥成熟果实。本品呈连珠状，背缝线一侧呈黄色。质柔润，干燥皱缩。种子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，肾形；质坚硬，味苦，种子嚼之有豆腥气。功效为清热泻火，凉血止血。用于肠热便血，痔肿出血，肝热头痛，眩晕目赤。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槐角丸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中医临床以槐角（炒）、地榆（炭）等六味药制成的水蜜丸。功效为清肠疏风、凉血止血。用于血热所致的肠风便血、痔疮肿痛。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2367800">
            <a:off x="5866560" y="5181120"/>
            <a:ext cx="1513080" cy="719280"/>
          </a:xfrm>
          <a:prstGeom prst="wedgeEllipseCallout">
            <a:avLst>
              <a:gd name="adj1" fmla="val 36560"/>
              <a:gd name="adj2" fmla="val 150125"/>
            </a:avLst>
          </a:prstGeom>
          <a:solidFill>
            <a:srgbClr val="8ba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槐角药材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98720" cy="2171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124000" y="155520"/>
            <a:ext cx="496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槐花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Sophor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1557360"/>
            <a:ext cx="8686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丁香不仅香气浓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古代它还被用来治“口气”（口臭），因此，又名“古代口香糖”。现代为中医临床上常用的温里药，民间常用做香料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3048120"/>
            <a:ext cx="8915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为桃金娘科植物丁香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ugenia caryophyllat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thunb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的干燥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花蕾</a:t>
            </a:r>
            <a:r>
              <a:rPr b="0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572000"/>
            <a:ext cx="7994880" cy="13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丁香药材，找出主要性状鉴别特征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根据丁香的性状解释其名称吗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63240" y="115560"/>
            <a:ext cx="5504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、丁香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aryophylli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9280" y="1628640"/>
            <a:ext cx="5230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呈研棒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花冠圆球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花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枚，复瓦状抱合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花瓣棕褐色至褐黄色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萼筒圆柱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略扁，有的稍弯曲，红棕色或棕褐色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上部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枚三角状的萼片，十字状分开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质坚实，富油性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气芳香浓烈，味辛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有麻舌感。如图所示。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0980000">
            <a:off x="5485680" y="5638320"/>
            <a:ext cx="1762200" cy="709560"/>
          </a:xfrm>
          <a:prstGeom prst="cloudCallout">
            <a:avLst>
              <a:gd name="adj1" fmla="val -29050"/>
              <a:gd name="adj2" fmla="val 123726"/>
            </a:avLst>
          </a:prstGeom>
          <a:solidFill>
            <a:srgbClr val="8db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丁香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127320" cy="3592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63600" y="115920"/>
            <a:ext cx="5504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、丁香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aryophyll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8600" y="155736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挥发油（丁香油），油中主要成分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丁香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β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丁香烯、乙酰丁香酚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温中降逆，补肾助阳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用于脾胃虚寒，呃逆呕吐，食少吐泻，心腹冷痛，肾虚阳痿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宜与郁金同用。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3657600"/>
            <a:ext cx="84250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丁香：本品为丁香的干燥成熟果实，又名“鸡舌香”。气微香，味辛。功效与丁香相似但较弱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丁香油：本品为丁香的干燥花蕾经水蒸气蒸馏得到的挥发油。可用于哮喘，咳痰不爽，口臭，胸膜炎等。外涂用于寒性疼痛，四肢麻木，冻疮及脑、脊髓病变引起的瘫痪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63600" y="115920"/>
            <a:ext cx="5504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、丁香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aryophyll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洋金花自古是著名的麻醉止痛药，但因其毒性大，临床应用时应注意剂量和禁忌证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2565360"/>
            <a:ext cx="8686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为茄科植物白花曼陀罗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tura metel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的干燥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多种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莨菪烷类生物碱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主要有东莨菪碱、莨菪碱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平喘止咳，镇痛解痉。用于哮喘咳嗽，脘腹冷痛，风湿痹痛，小儿慢惊；外科麻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外感及痰热咳喘、青光眼、高血压及心动过速患者禁用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66560" y="189000"/>
            <a:ext cx="5761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洋金花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Datura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" y="3357720"/>
            <a:ext cx="78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440000"/>
            <a:ext cx="477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皱缩成条状，完整者长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5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花萼呈筒状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长为花冠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先端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裂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面微有茸毛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花冠呈喇叭状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淡黄色或黄棕色，先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浅裂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雄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花丝贴生于花冠筒内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长为花冠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烘干品质柔韧，气特异；晒干品质脆，气微，味微苦。如图所示。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600360" cy="3668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rot="9576000">
            <a:off x="3707640" y="5300280"/>
            <a:ext cx="2087640" cy="830160"/>
          </a:xfrm>
          <a:prstGeom prst="cloudCallout">
            <a:avLst>
              <a:gd name="adj1" fmla="val -80888"/>
              <a:gd name="adj2" fmla="val 36324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黑体"/>
              </a:rPr>
              <a:t>洋金花药材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66920" y="189000"/>
            <a:ext cx="576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洋金花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Datur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50920" y="1557360"/>
            <a:ext cx="8740800" cy="43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例解析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药洋金花“变成”金银花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湖南籍的女婴丹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服用一药店的中药中毒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经抢救脱险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父母将药店告上法庭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丹丹的代理律师诉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丹丹感冒，于当日下午到一药店购买了两剂中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店配方时错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剧毒中药“洋金花”当成了“金银花”售出。丹丹的父母将中药煎好后，给小孩服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匙。不久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丹丹全身发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放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足抽搐。经医院及时抢救治愈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父母向药店索赔，经当地法律服务所和工商部门调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店以种种理由拒付。丹丹的父母遂将药店告上法庭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66920" y="189000"/>
            <a:ext cx="576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洋金花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Datur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1600200"/>
            <a:ext cx="8763120" cy="302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丹丹服用中药后会出现中毒现象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学生指出金银花与洋金花性状和功效的主要区别点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确实是药店错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根据所学的知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药店在中药管理上存在哪些问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示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洋金花属于毒性中药。国家对该类药品实行定点生产、定点供应、限量销售。一般人正常用量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。　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66920" y="189000"/>
            <a:ext cx="576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洋金花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Datur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1844640"/>
            <a:ext cx="8534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银花因花有黄白二色而得名，中医临床常用作清热解毒药，是治疗疔疮肿毒的要药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3276720"/>
            <a:ext cx="8686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为忍冬科植物忍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nicera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aponi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Thun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干燥花蕾或初开的花</a:t>
            </a:r>
            <a:r>
              <a:rPr b="0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05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金银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Lonicerae Japonica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840120" cy="2160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9280" y="1600200"/>
            <a:ext cx="416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植物形态特征】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忍冬为多年生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半常绿木质藤本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幼枝密被短柔毛，单叶对生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花成对腋生，花梗及花均有短柔毛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花冠筒细长，上唇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浅裂，下唇狭而不裂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初开时白色，后变为金黄色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芳香，外被毛茸；雄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伸出花冠外。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9097800">
            <a:off x="5002920" y="4941360"/>
            <a:ext cx="1081080" cy="1079640"/>
          </a:xfrm>
          <a:prstGeom prst="wedgeEllipseCallout">
            <a:avLst>
              <a:gd name="adj1" fmla="val -163694"/>
              <a:gd name="adj2" fmla="val 21528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花蕾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6286800">
            <a:off x="7885080" y="4076280"/>
            <a:ext cx="719280" cy="1008000"/>
          </a:xfrm>
          <a:prstGeom prst="wedgeRoundRectCallout">
            <a:avLst>
              <a:gd name="adj1" fmla="val -151865"/>
              <a:gd name="adj2" fmla="val 186259"/>
              <a:gd name="adj3" fmla="val 1666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花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16000" y="115920"/>
            <a:ext cx="705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金银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Lonicerae Japonic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15573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洁白、高雅的玉兰花深受人们的喜爱，而它的花蕾——辛夷是中医临床上常用的治疗鼻炎的要药。时珍曰：“夷者荑也。其苞初生如荑而味辛也”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2924280"/>
            <a:ext cx="42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为木兰科植物望春花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agnolia biondii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Pamp.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、玉兰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.denudat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Desr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或武当玉兰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.sprengeri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Pamp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的干燥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花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21040" y="194760"/>
            <a:ext cx="52876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辛夷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Magnolia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876920" y="2711520"/>
            <a:ext cx="3581280" cy="2695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603600" y="6337440"/>
            <a:ext cx="1039680" cy="52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1773360"/>
            <a:ext cx="868680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产地】主产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河南、山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均为栽培。以河南密县产者为佳，商品称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密银花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，山东产者称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济银花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、“东银花”，产量大、质量亦较好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采收加工】夏初花开放前采收，干燥。有的地区用炒晒、蒸晒法干燥。忌曝晒。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4572000"/>
            <a:ext cx="86104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金银花药材，找出主要性状特征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根据金银花的特性说出其名称的来由吗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115920"/>
            <a:ext cx="705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金银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Lonicerae Japonic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2682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95280" y="1600200"/>
            <a:ext cx="44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呈棒状，上粗下细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略弯曲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表面黄白色或绿白色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贮久色渐深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密被短柔毛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开放者花冠筒状，先端二唇形；雄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，附于筒壁，黄色；雌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，子房无毛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气清香，味淡、微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84720" y="5157720"/>
            <a:ext cx="2087640" cy="86364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51640" y="4797360"/>
            <a:ext cx="1800000" cy="11527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9529800">
            <a:off x="5655600" y="4998240"/>
            <a:ext cx="1971720" cy="917640"/>
          </a:xfrm>
          <a:prstGeom prst="cloudCallout">
            <a:avLst>
              <a:gd name="adj1" fmla="val -65532"/>
              <a:gd name="adj2" fmla="val 985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黑体"/>
              </a:rPr>
              <a:t>金银花药材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16000" y="115920"/>
            <a:ext cx="705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金银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Lonicerae Japonic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4857840" cy="4400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28600" y="1652760"/>
            <a:ext cx="3733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显微鉴定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粉末呈浅黄色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花粉粒类球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萌发孔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腺毛有两种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种头部呈倒圆锥形，另一种头部近圆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非腺毛大多为单细胞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薄壁细胞中含细小草酸钙簇晶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柱头顶端表皮细胞呈绒毛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4517600">
            <a:off x="7896960" y="27360"/>
            <a:ext cx="711000" cy="1265040"/>
          </a:xfrm>
          <a:prstGeom prst="wedgeEllipseCallout">
            <a:avLst>
              <a:gd name="adj1" fmla="val -22462"/>
              <a:gd name="adj2" fmla="val -111685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腺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7728000">
            <a:off x="7571520" y="5189040"/>
            <a:ext cx="1467000" cy="762120"/>
          </a:xfrm>
          <a:prstGeom prst="wedgeEllipseCallout">
            <a:avLst>
              <a:gd name="adj1" fmla="val -41611"/>
              <a:gd name="adj2" fmla="val 84518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非腺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9175800">
            <a:off x="2893320" y="5335560"/>
            <a:ext cx="1676520" cy="696960"/>
          </a:xfrm>
          <a:prstGeom prst="wedgeEllipseCallout">
            <a:avLst>
              <a:gd name="adj1" fmla="val -85875"/>
              <a:gd name="adj2" fmla="val 94379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花粉粒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115920"/>
            <a:ext cx="705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金银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Lonicerae Japonic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9280" y="1125360"/>
            <a:ext cx="88394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绿原酸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异绿原酸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木犀草素及其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7—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葡萄糖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并含挥发油，油中主成分为双花醇和芳樟醇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清热解毒，凉散风热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用于痈肿疔疮，喉痹，丹毒，热毒血痢，风热感冒，温病发热。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357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2924280"/>
            <a:ext cx="86868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银花：本品为忍冬科植物灰毡毛忍冬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onicera macranthoides Hand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zz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、红腺忍冬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onicera hypoglauca Miq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或华南忍冬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onicera confusa DC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的干燥花蕾或带初开的花。以上品种在我国大部分地区有产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野生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去作为金银花药用，功效、主治与金银花相同但质量稍差，因此中国药典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版将其与金银花分列，以山银花药名入药。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忍冬藤：为忍冬的干燥茎枝。能清热解毒，疏风通络；用于温病发热、热毒血痢、痈肿疮毒、风湿热痹等。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115920"/>
            <a:ext cx="705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金银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Lonicerae Japonic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155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红花因红色而得名，是中医临床常用的活血药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13372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为菊科植物红花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arthamus tinctorius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的干燥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花</a:t>
            </a:r>
            <a:r>
              <a:rPr b="0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植物形态特征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红花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年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草本植物，茎直立。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头状花序顶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排成伞形状；总苞片数轮，外轮苞片披针形或卵状披针形，绿色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边缘具尖刺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花全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管状花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刚开放时呈黄色，后转为橙红色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瘦果椭圆形或卵形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24000" y="115920"/>
            <a:ext cx="5184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、红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arthami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28600" y="1752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产地】主产新疆、河南、四川、浙江、云南等地，全国各地均有大量栽培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采收加工】夏季花由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黄变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采摘，阴干或晒干。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4724280"/>
            <a:ext cx="8893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红花药材，找出主要性状特征，注意与西红花的区别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表述红花的主要粉末特征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760920" cy="2628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124000" y="115920"/>
            <a:ext cx="518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、红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artham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352680" cy="28177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800600" y="1347840"/>
            <a:ext cx="4092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带子房的管状花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面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红黄色或红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花冠筒细长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先端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雄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花药聚合成筒状；柱头长圆柱形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质柔软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气微香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味微苦。如图所示。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8673000">
            <a:off x="3504960" y="1752480"/>
            <a:ext cx="1222200" cy="782640"/>
          </a:xfrm>
          <a:prstGeom prst="cloudCallout">
            <a:avLst>
              <a:gd name="adj1" fmla="val 100754"/>
              <a:gd name="adj2" fmla="val -45921"/>
            </a:avLst>
          </a:pr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红花药材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24000" y="115920"/>
            <a:ext cx="518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、红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artham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409920" cy="22003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1700280"/>
            <a:ext cx="3711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显微鉴定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粉末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橙黄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长管状分泌细胞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含黄棕色至红棕色分泌物。花冠表皮细胞外壁突起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呈短绒毛状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花柱表皮细胞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化成圆锥形单细胞毛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端尖或稍钝。花粉粒橙黄色类圆形、椭圆形或橄榄形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具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个萌发孔，外壁有齿状突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草酸钙方晶存在于薄壁细胞中。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7762200">
            <a:off x="7236360" y="3859920"/>
            <a:ext cx="1800360" cy="1512720"/>
          </a:xfrm>
          <a:prstGeom prst="cloudCallout">
            <a:avLst>
              <a:gd name="adj1" fmla="val -114296"/>
              <a:gd name="adj2" fmla="val 13512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Times New Roman"/>
              </a:rPr>
              <a:t>花瓣表皮细胞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2748200">
            <a:off x="3649320" y="1395360"/>
            <a:ext cx="1150920" cy="936720"/>
          </a:xfrm>
          <a:prstGeom prst="wedgeEllipseCallout">
            <a:avLst>
              <a:gd name="adj1" fmla="val -106212"/>
              <a:gd name="adj2" fmla="val 130472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花粉粒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56000" y="3068640"/>
            <a:ext cx="1368360" cy="12240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2421800">
            <a:off x="3708000" y="2420640"/>
            <a:ext cx="1224000" cy="936720"/>
          </a:xfrm>
          <a:prstGeom prst="wedgeEllipseCallout">
            <a:avLst>
              <a:gd name="adj1" fmla="val -173939"/>
              <a:gd name="adj2" fmla="val 252893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分泌管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7296000">
            <a:off x="5941080" y="4003920"/>
            <a:ext cx="1224000" cy="115236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7772400">
            <a:off x="5724000" y="4581360"/>
            <a:ext cx="1223640" cy="1008000"/>
          </a:xfrm>
          <a:prstGeom prst="wedgeEllipseCallout">
            <a:avLst>
              <a:gd name="adj1" fmla="val -108722"/>
              <a:gd name="adj2" fmla="val 166250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Times New Roman"/>
              </a:rPr>
              <a:t>花柱表皮细胞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24000" y="115920"/>
            <a:ext cx="518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、红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artham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52280" y="155736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红花苷、红花醌苷、红花黄色素、槲皮素、山柰素等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红花能阻止血栓进一步形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促使血栓溶解，使阻塞部位血流通畅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活血通经，散瘀止痛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用于闭经、痛经、恶露不行、跌打损伤、疮疡肿痛、癥瘕痞块等。注意：孕妇慎用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24000" y="115920"/>
            <a:ext cx="518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、红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artham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562200" cy="3052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04920" y="1676520"/>
            <a:ext cx="4163760" cy="38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西红花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为鸢尾科植物番红花的干燥柱头。主产西班牙、法国、希腊及俄罗斯，我国江苏、浙江、上海等地也有少量栽培。本品呈线形，三分枝，长约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3cm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，暗红色，体轻，气特异。功效为活血化瘀，凉血解毒，解郁安神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4876920"/>
            <a:ext cx="2160720" cy="685800"/>
          </a:xfrm>
          <a:prstGeom prst="cloudCallout">
            <a:avLst>
              <a:gd name="adj1" fmla="val -402"/>
              <a:gd name="adj2" fmla="val -193055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黑体"/>
              </a:rPr>
              <a:t>西红花药材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24000" y="115920"/>
            <a:ext cx="518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、红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artham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1676520"/>
            <a:ext cx="4753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望春花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品呈长卵形，似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毛笔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苞片外表面密被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灰白色或灰绿色茸毛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内表面类棕色，无毛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花被片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类棕色，外轮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内轮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每轮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轮状排列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雄蕊和雌蕊多数，螺旋状排列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轻，质脆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气芳香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味辛凉而稍苦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3657600"/>
            <a:ext cx="1440000" cy="459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辛夷药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7164360" y="3357720"/>
            <a:ext cx="71640" cy="431640"/>
          </a:xfrm>
          <a:custGeom>
            <a:avLst/>
            <a:gdLst>
              <a:gd name="textAreaLeft" fmla="*/ 4320 w 71640"/>
              <a:gd name="textAreaRight" fmla="*/ 67320 w 71640"/>
              <a:gd name="textAreaTop" fmla="*/ 4320 h 431640"/>
              <a:gd name="textAreaBottom" fmla="*/ 427320 h 431640"/>
            </a:gdLst>
            <a:ahLst/>
            <a:rect l="textAreaLeft" t="textAreaTop" r="textAreaRight" b="textAreaBottom"/>
            <a:pathLst>
              <a:path w="21600" h="129600">
                <a:moveTo>
                  <a:pt x="0" y="0"/>
                </a:moveTo>
                <a:lnTo>
                  <a:pt x="21600" y="0"/>
                </a:lnTo>
                <a:lnTo>
                  <a:pt x="21600" y="129600"/>
                </a:lnTo>
                <a:lnTo>
                  <a:pt x="0" y="129600"/>
                </a:lnTo>
                <a:close/>
              </a:path>
              <a:path fill="lightenLess" w="21600" h="129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9600">
                <a:moveTo>
                  <a:pt x="21600" y="0"/>
                </a:moveTo>
                <a:lnTo>
                  <a:pt x="21600" y="129600"/>
                </a:lnTo>
                <a:lnTo>
                  <a:pt x="20200" y="128200"/>
                </a:lnTo>
                <a:lnTo>
                  <a:pt x="20200" y="1400"/>
                </a:lnTo>
                <a:close/>
              </a:path>
              <a:path fill="darkenLess" w="21600" h="129600">
                <a:moveTo>
                  <a:pt x="21600" y="129600"/>
                </a:moveTo>
                <a:lnTo>
                  <a:pt x="0" y="129600"/>
                </a:lnTo>
                <a:lnTo>
                  <a:pt x="1400" y="128200"/>
                </a:lnTo>
                <a:lnTo>
                  <a:pt x="20200" y="128200"/>
                </a:lnTo>
                <a:close/>
              </a:path>
              <a:path fill="lighten" w="21600" h="129600">
                <a:moveTo>
                  <a:pt x="0" y="129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128200"/>
                </a:lnTo>
                <a:close/>
              </a:path>
              <a:path fill="darken" w="21600" h="129600">
                <a:moveTo>
                  <a:pt x="3794" y="64800"/>
                </a:moveTo>
                <a:lnTo>
                  <a:pt x="17806" y="57794"/>
                </a:lnTo>
                <a:lnTo>
                  <a:pt x="17806" y="71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3124440" cy="2355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562720" y="4268880"/>
            <a:ext cx="3276360" cy="1830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1040" y="195120"/>
            <a:ext cx="5287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辛夷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Magnoli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71640" y="5229360"/>
            <a:ext cx="2016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番红花植物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96000" y="5229360"/>
            <a:ext cx="17287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西红花药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720880" cy="3440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124000" y="115920"/>
            <a:ext cx="518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、红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artham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28600" y="1552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菊花在我国已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年的栽培历史，为著名的观赏植物，并被列入我国十大名花之一，而其中的药用菊花是中医发散风热，平肝明目的常用药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311292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为菊科植物菊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hrysanthemum morifolium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Ramat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的干燥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头状花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产地加工】主产安徽、浙江、河南、四川等地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花盛开时分批采收，阴干或焙干，或熏、蒸后晒干。药材按产地和加工方法不同分为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毫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产安徽亳州，为阴干品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滁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产安徽滁州，为生晒品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贡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产安徽歙县，为烘干品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杭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产浙江杭州，为蒸晒品。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08000" y="150480"/>
            <a:ext cx="583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菊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hrysanthemi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57200" y="183204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形态特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年生草本。茎直立。叶互生，卵形或卵状披针形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缘常羽状深裂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被白色茸毛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头状花序顶生或腋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子房下位。瘦果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棱。花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，果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06360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908000" y="1508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菊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hrysanthem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50920" y="162864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亳菊 呈倒圆锥形，直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离散。总苞片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层，花托半球形，舌状花数层，位于外围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管状花多数，两性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位于中央，为舌状花所隐藏。瘦果不发育。体轻，质柔润，干时松脆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气清香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味甘、微苦。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滁菊  呈不规则球形，直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5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舌状花类白色，不规则扭曲，内卷，边缘皱缩，有时可见淡褐色腺点；管状花大多隐藏。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08000" y="1508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菊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hrysanthem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52280" y="1557360"/>
            <a:ext cx="8991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贡菊  呈扁球形，直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5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舌状花白色，上部反折，边缘稍内卷而皱缩，通常无腺点；管状花少，外露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杭菊 呈碟形，直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常数个相连成片。舌状花类白色，平展或微折叠，彼此粘连，通常无腺点；管状花多数，外露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4797360"/>
            <a:ext cx="8686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菊花药材，指出四种菊花的主要性状特征及主要区别点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8000" y="1508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菊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hrysanthem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317844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051000" cy="23083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84360" y="5734080"/>
            <a:ext cx="1942920" cy="7905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8893800">
            <a:off x="3657600" y="5257440"/>
            <a:ext cx="1293840" cy="944640"/>
          </a:xfrm>
          <a:prstGeom prst="cloudCallout">
            <a:avLst>
              <a:gd name="adj1" fmla="val 15879"/>
              <a:gd name="adj2" fmla="val 106601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黑体"/>
              </a:rPr>
              <a:t>亳菊药材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8232000">
            <a:off x="4181040" y="3549240"/>
            <a:ext cx="914400" cy="1143000"/>
          </a:xfrm>
          <a:prstGeom prst="cloudCallout">
            <a:avLst>
              <a:gd name="adj1" fmla="val -90143"/>
              <a:gd name="adj2" fmla="val -8024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Times New Roman"/>
                <a:ea typeface="黑体"/>
              </a:rPr>
              <a:t>杭菊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Times New Roman"/>
                <a:ea typeface="黑体"/>
              </a:rPr>
              <a:t>药材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1752480"/>
            <a:ext cx="1439640" cy="657360"/>
          </a:xfrm>
          <a:prstGeom prst="cloudCallout">
            <a:avLst>
              <a:gd name="adj1" fmla="val -163009"/>
              <a:gd name="adj2" fmla="val -88162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黑体"/>
              </a:rPr>
              <a:t>貢菊药材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3165480" cy="29037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908000" y="1508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菊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hrysanthem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52280" y="1600200"/>
            <a:ext cx="87631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挥发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0.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％，油中主含菊酮、龙脑、龙脑乙酸酯等；另含绿原酸、腺嘌呤、胆碱、大波斯菊苷、菊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菊花萜二醇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散风清热，平肝明目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用于风热感冒，头痛眩晕，目赤肿痛，眼目昏花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08000" y="1508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菊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hrysanthem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50920" y="1628640"/>
            <a:ext cx="4092480" cy="34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菊花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菊科植物野菊的干燥头状花序。生药呈类球形，直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c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棕黄色。舌状花一轮。气芳香，味苦。具有清热解毒作用。用于扁桃体炎、疔疮痈肿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2477000">
            <a:off x="1692360" y="4941720"/>
            <a:ext cx="2232000" cy="1224000"/>
          </a:xfrm>
          <a:prstGeom prst="cloudCallout">
            <a:avLst>
              <a:gd name="adj1" fmla="val -82921"/>
              <a:gd name="adj2" fmla="val 1878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1877600">
            <a:off x="2209320" y="4876560"/>
            <a:ext cx="1800360" cy="1224000"/>
          </a:xfrm>
          <a:prstGeom prst="cloudCallout">
            <a:avLst>
              <a:gd name="adj1" fmla="val -93444"/>
              <a:gd name="adj2" fmla="val 122944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Times New Roman"/>
              </a:rPr>
              <a:t>野菊花药材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079880" cy="35542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908000" y="1508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菊花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Chrysanthem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3851280" cy="32464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76320" y="1523880"/>
            <a:ext cx="8762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蒲为植物香蒲，黄是指花粉黄色。功效生熟相反，生可活血，炭可止血，是中医临床常用的活血止血药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280" y="2743200"/>
            <a:ext cx="3124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香蒲科植物水烛香蒲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</a:rPr>
              <a:t>Typha angustifoli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东方香蒲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</a:rPr>
              <a:t>T. orientali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Pres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或同属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植物的干燥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花粉</a:t>
            </a:r>
            <a:r>
              <a:rPr b="0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2601800">
            <a:off x="3352680" y="3048120"/>
            <a:ext cx="1355760" cy="923760"/>
          </a:xfrm>
          <a:prstGeom prst="cloudCallout">
            <a:avLst>
              <a:gd name="adj1" fmla="val -218953"/>
              <a:gd name="adj2" fmla="val 111634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花序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7396400">
            <a:off x="3236040" y="5221800"/>
            <a:ext cx="771480" cy="995400"/>
          </a:xfrm>
          <a:prstGeom prst="wedgeEllipseCallout">
            <a:avLst>
              <a:gd name="adj1" fmla="val 106115"/>
              <a:gd name="adj2" fmla="val 14689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410920" y="115560"/>
            <a:ext cx="525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八、蒲黄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ollen Typha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048120" cy="28465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49200" y="1773360"/>
            <a:ext cx="429912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黄色粉末，体轻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放水中则飘浮水面。手捻有滑腻感，易附着手指上。气微，味淡。   如图所示。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8644400">
            <a:off x="5003640" y="5114520"/>
            <a:ext cx="1771560" cy="914400"/>
          </a:xfrm>
          <a:prstGeom prst="cloudCallout">
            <a:avLst>
              <a:gd name="adj1" fmla="val 67402"/>
              <a:gd name="adj2" fmla="val -100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花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11280" y="115920"/>
            <a:ext cx="5256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八、蒲黄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ollen Typh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1600200"/>
            <a:ext cx="8458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玉兰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部枝梗较粗壮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皮孔浅棕色。苞片外表面密被灰白色或灰绿色茸毛。花被片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内外轮同型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武当玉兰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部枝梗粗壮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皮孔红棕色。苞片外表面密被淡黄色或淡黄绿色茸毛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的最外层苞片茸毛已脱落而呈黑褐色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花被片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2(15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外轮无显著差异。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21040" y="195120"/>
            <a:ext cx="5287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辛夷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Magnoli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53964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190512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异鼠李素、异鼠李素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—O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新橙皮苷、香蒲新苷等成分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止血，化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通淋。用于吐血，衄血，咯血，崩漏，外伤出血，经闭痛经，脘腹刺痛，跌扑肿痛，血淋涩痛。注意：孕妇慎用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11280" y="115920"/>
            <a:ext cx="5256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八、蒲黄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ollen Typh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143000" y="2590920"/>
            <a:ext cx="6781680" cy="13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观看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96" name=""/>
          <p:cNvSpPr/>
          <p:nvPr/>
        </p:nvSpPr>
        <p:spPr>
          <a:xfrm>
            <a:off x="6435000" y="57643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1f7e9"/>
                </a:solidFill>
                <a:latin typeface="Arial"/>
                <a:ea typeface="隶书"/>
              </a:rPr>
              <a:t>卫生部教材办公室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53080" y="6165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1f7e9"/>
                </a:solidFill>
                <a:latin typeface="Arial"/>
                <a:ea typeface="隶书"/>
              </a:rPr>
              <a:t>人民卫生电子音像出版社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12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天然药物学（配套光盘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4000" y="1700280"/>
            <a:ext cx="8610480" cy="21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辛夷药材，找出主要性状鉴别特征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１）为何称为辛夷、望春花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２）望春花 、玉兰、武当玉兰如何在苞片、花梗上区别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4076640"/>
            <a:ext cx="8667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挥发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油中主含桉叶素、丁香酚等，另还含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木脂素类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成分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散风寒、通鼻窍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用于风寒头痛、鼻塞、鼻炎、鼻流浊涕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21040" y="195120"/>
            <a:ext cx="5287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辛夷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Magnoli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8600" y="152388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药槐花是豆科植物槐（又称“国槐”）的花，而不是洋槐（枝条有皮刺）的花，是一种常用的“凉血止血”药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289548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为豆科植物槐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ophora japonic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的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干燥花及花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。前者习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“槐花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，后者习称“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槐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23640" y="155160"/>
            <a:ext cx="496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槐花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Sophora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3142400">
            <a:off x="2057040" y="5257440"/>
            <a:ext cx="785880" cy="938160"/>
          </a:xfrm>
          <a:prstGeom prst="cloudCallout">
            <a:avLst>
              <a:gd name="adj1" fmla="val -121328"/>
              <a:gd name="adj2" fmla="val 276481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343400" y="274644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303720" cy="35049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04920" y="1600200"/>
            <a:ext cx="439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槐花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品皱缩而卷曲，花瓣多散落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完整者花萼钟状，黄绿色，先端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浅裂；花瓣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黄色或黄白色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片较大，近圆形，先端微凹，其余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片长圆形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花丝细长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体雄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雄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，雌蕊圆柱形，弯曲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轻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微，味微苦。如图所示。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16720" y="1197000"/>
            <a:ext cx="1727280" cy="1089000"/>
          </a:xfrm>
          <a:prstGeom prst="cloudCallout">
            <a:avLst>
              <a:gd name="adj1" fmla="val -10662"/>
              <a:gd name="adj2" fmla="val 98689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Times New Roman"/>
              </a:rPr>
              <a:t>槐花药材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24000" y="155520"/>
            <a:ext cx="496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槐花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Sophor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562720" y="335268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1700280"/>
            <a:ext cx="410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槐米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卵形或椭圆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花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萼下部有数条纵纹。萼的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方为黄白色未开放的花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瓣。花梗细小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轻，手捻即碎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微，味微苦涩。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04000" y="2209680"/>
            <a:ext cx="1730520" cy="1074960"/>
          </a:xfrm>
          <a:prstGeom prst="cloudCallout">
            <a:avLst>
              <a:gd name="adj1" fmla="val -42935"/>
              <a:gd name="adj2" fmla="val 8486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黑体"/>
              </a:rPr>
              <a:t>槐米药材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155520"/>
            <a:ext cx="496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槐花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Sophor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2280" y="1628640"/>
            <a:ext cx="876312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主要含黄酮类成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芸香苷（又名芦丁）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槐米甲素和槲皮素，另含甾类成分槐米乙素、槐米丙素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凉血止血，清肝泻火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用于便血，痔血，血痢，崩漏，吐血，衄血，肝热目赤，头痛眩晕。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4191120"/>
            <a:ext cx="8280360" cy="17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槐米、槐花，说出主要性状鉴别特征。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槐花、炒槐花、槐花炭，哪一种药材规格的凉血止血作用更好？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4000" y="155520"/>
            <a:ext cx="496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槐花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los Sophor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280" y="658008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八章 花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05:17:05Z</dcterms:created>
  <dc:creator>dmf</dc:creator>
  <dc:description/>
  <dc:language>en-US</dc:language>
  <cp:lastModifiedBy>epmph</cp:lastModifiedBy>
  <dcterms:modified xsi:type="dcterms:W3CDTF">2008-12-18T06:26:04Z</dcterms:modified>
  <cp:revision>356</cp:revision>
  <dc:subject/>
  <dc:title>天然药物课件第八章花类</dc:title>
</cp:coreProperties>
</file>